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move the slide</a:t>
            </a:r>
            <a:endParaRPr b="0" lang="en-US" sz="4400" spc="-1" strike="noStrike">
              <a:solidFill>
                <a:srgbClr val="0033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A46B-9A08-4562-9716-11AB52706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hrough the slide show beforehand in notes view as well as regular slide-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int a 6-slides-per-page or 3-slides-per-page handout and make your own notes from the slide pres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print the notes pages of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use this PPT as a review to check for student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nformation would this pyramid include if it were a pyramid of bioma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would have the total biomass at each level or it would have a key for how much biomass was represented by each pic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they get a number total for the biomass of a population?</a:t>
            </a:r>
            <a:endParaRPr b="0" lang="en-US" sz="1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otal mass of the organisms is determined by drying and weighing a sample number of organisms at each level and then calculating the total mass for the species at each level. </a:t>
            </a: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nformation would this pyramid include if it were a pyramid of numb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would have the total population at each level or it would have a key for how organisms were represented by each pic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they get a number total for a population of organisms?</a:t>
            </a:r>
            <a:endParaRPr b="0" lang="en-US" sz="1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opulation is determined by counting the organisms of a species in a sample portion at each level and then calculating an average for the total area.</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a pyramid used to represent these feeding relationshi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mally there is more energy, biomass and number of organisms at the lower level, decreasing as you move upwar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s this also a pyrami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has the same general pyramid shape decreasing toward the top and shows trophic leve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what happens to the mass, numbers,and energy from trophic level to trophic leve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they decrease as you go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different about this pyram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has a very small trophic level 1 (produ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the producer level be so small and support the trophic levels above it? </a:t>
            </a:r>
            <a:r>
              <a:rPr b="1" lang="en-US" sz="1200" spc="-1" strike="noStrike">
                <a:solidFill>
                  <a:srgbClr val="000000"/>
                </a:solidFill>
                <a:latin typeface="Times New Roman"/>
              </a:rPr>
              <a:t>(Rhetorical question - lead in for the next two slid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of Aquatic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 </a:t>
            </a:r>
            <a:r>
              <a:rPr b="1" lang="en-US" sz="1200" spc="-1" strike="noStrike">
                <a:solidFill>
                  <a:srgbClr val="000000"/>
                </a:solidFill>
                <a:latin typeface="Times New Roman"/>
              </a:rPr>
              <a:t>Follows the normal pattern of having many more phytoplankton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 - </a:t>
            </a:r>
            <a:r>
              <a:rPr b="1" lang="en-US" sz="1200" spc="-1" strike="noStrike">
                <a:solidFill>
                  <a:srgbClr val="000000"/>
                </a:solidFill>
                <a:latin typeface="Times New Roman"/>
              </a:rPr>
              <a:t>The phytoplankton reproduce a a rate only just slightly higher than the rate at which they are eaten.  Since they are so small and weigh so little there is a very small 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 </a:t>
            </a:r>
            <a:r>
              <a:rPr b="1" lang="en-US" sz="1200" spc="-1" strike="noStrike">
                <a:solidFill>
                  <a:srgbClr val="000000"/>
                </a:solidFill>
                <a:latin typeface="Times New Roman"/>
              </a:rPr>
              <a:t>Follows the normal pattern of having much more energy available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yramid of biomass in aquatic ecosystems (ocean &amp; fresh) and some terrestrial ecosystems such as the pyramid of numbers for  the temperate forest.  Because the trees are so large their numbers are small compared to the number of organisms at the higher trophic level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of Aquatic 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 </a:t>
            </a:r>
            <a:r>
              <a:rPr b="1" lang="en-US" sz="1200" spc="-1" strike="noStrike">
                <a:solidFill>
                  <a:srgbClr val="000000"/>
                </a:solidFill>
                <a:latin typeface="Times New Roman"/>
              </a:rPr>
              <a:t>In the temperate forest, the trees are huge but smaller in number compared to the grasses in a prairie and so are fewer compared to the number of organisms at the higher trophic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 - </a:t>
            </a:r>
            <a:r>
              <a:rPr b="1" lang="en-US" sz="1200" spc="-1" strike="noStrike">
                <a:solidFill>
                  <a:srgbClr val="000000"/>
                </a:solidFill>
                <a:latin typeface="Times New Roman"/>
              </a:rPr>
              <a:t>Follows the normal pattern of having much more mass at TL1 from the hug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 </a:t>
            </a:r>
            <a:r>
              <a:rPr b="1" lang="en-US" sz="1200" spc="-1" strike="noStrike">
                <a:solidFill>
                  <a:srgbClr val="000000"/>
                </a:solidFill>
                <a:latin typeface="Times New Roman"/>
              </a:rPr>
              <a:t>Follows the normal pattern of having much more energy available at TL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is an ecological pyram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shows the feeding organisms in successive levels like a pyramid.  Note the small number of producers to reflect the aquatic pyramid of numbers with a very small trophic level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 Predato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man sometimes called the “Ultimate Predato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covers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ke notes” symbol represents information that is in the Energy Flow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thing shown is to be taken as notes. Listen carefully to the teacher discussion. Check your Energy Flow Activity answers as need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duction to PYRAMID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 August 4, 2003)</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sun eclipse with pal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the ultimate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Astronomy Picture of the Da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of representing trophic levels in a food web, an ecological pyramid can be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pyramid represent a food chain or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hain as there is only one eating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uld this pyramid be changed to represent a food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fferent species of organisms could be added at each level to show more eating “opportunities for the organisms abov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en the discussion by asking “What organisms could you add at each trophic level for a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the big numbers re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rophic levels.  Have them identify the type of organism at each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kcal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stands for kilocalories, a measurement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energy as you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gets less and less; lost in heat energy or used in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nergy loss between level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ule of thumb is 10% (although it is an average across levels and chains.) </a:t>
            </a:r>
            <a:r>
              <a:rPr b="1" lang="en-US" sz="2000" spc="-1" strike="noStrike">
                <a:solidFill>
                  <a:srgbClr val="000000"/>
                </a:solidFill>
                <a:latin typeface="Times New Roman"/>
              </a:rPr>
              <a:t>No trophic level can contain more energy than the level below.</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pyramid is thi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ergy Pyramid, sometimes also called a pyramid of productivity.  It represents the </a:t>
            </a:r>
            <a:r>
              <a:rPr b="1" lang="en-US" sz="2000" spc="-1" strike="noStrike">
                <a:solidFill>
                  <a:srgbClr val="000000"/>
                </a:solidFill>
                <a:latin typeface="Times New Roman"/>
              </a:rPr>
              <a:t>energy content of organisms.  The kcal is calculated by measuring the calories produced at each level.</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ogical Pyramids</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s this pyramid different from the previous on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shows multiple pictures of each species at the different trophic leve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ould the multiple pictures of the species at each level repres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y could represent the total number of organisms of each species or their total biomass.</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1DCFF-D40B-4575-97B4-CEC450439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8" name="PlaceHolder 2"/>
          <p:cNvSpPr>
            <a:spLocks noGrp="1"/>
          </p:cNvSpPr>
          <p:nvPr>
            <p:ph/>
          </p:nvPr>
        </p:nvSpPr>
        <p:spPr>
          <a:xfrm>
            <a:off x="995400" y="179028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9" name="PlaceHolder 3"/>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46C33-2F2F-4387-B5E0-CA3452F5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1"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2"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3"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4" name="PlaceHolder 5"/>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7B513-2118-40F7-8591-E16E747C6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6" name="PlaceHolder 2"/>
          <p:cNvSpPr>
            <a:spLocks noGrp="1"/>
          </p:cNvSpPr>
          <p:nvPr>
            <p:ph/>
          </p:nvPr>
        </p:nvSpPr>
        <p:spPr>
          <a:xfrm>
            <a:off x="995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7" name="PlaceHolder 3"/>
          <p:cNvSpPr>
            <a:spLocks noGrp="1"/>
          </p:cNvSpPr>
          <p:nvPr>
            <p:ph/>
          </p:nvPr>
        </p:nvSpPr>
        <p:spPr>
          <a:xfrm>
            <a:off x="3623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8" name="PlaceHolder 4"/>
          <p:cNvSpPr>
            <a:spLocks noGrp="1"/>
          </p:cNvSpPr>
          <p:nvPr>
            <p:ph/>
          </p:nvPr>
        </p:nvSpPr>
        <p:spPr>
          <a:xfrm>
            <a:off x="625104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9" name="PlaceHolder 5"/>
          <p:cNvSpPr>
            <a:spLocks noGrp="1"/>
          </p:cNvSpPr>
          <p:nvPr>
            <p:ph/>
          </p:nvPr>
        </p:nvSpPr>
        <p:spPr>
          <a:xfrm>
            <a:off x="995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0" name="PlaceHolder 6"/>
          <p:cNvSpPr>
            <a:spLocks noGrp="1"/>
          </p:cNvSpPr>
          <p:nvPr>
            <p:ph/>
          </p:nvPr>
        </p:nvSpPr>
        <p:spPr>
          <a:xfrm>
            <a:off x="3623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1" name="PlaceHolder 7"/>
          <p:cNvSpPr>
            <a:spLocks noGrp="1"/>
          </p:cNvSpPr>
          <p:nvPr>
            <p:ph/>
          </p:nvPr>
        </p:nvSpPr>
        <p:spPr>
          <a:xfrm>
            <a:off x="625104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4A24B-5F80-44C9-83CC-1BE6576B8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1304E-6845-4983-AEA6-E77CA0890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49" name="PlaceHolder 2"/>
          <p:cNvSpPr>
            <a:spLocks noGrp="1"/>
          </p:cNvSpPr>
          <p:nvPr>
            <p:ph type="subTitle"/>
          </p:nvPr>
        </p:nvSpPr>
        <p:spPr>
          <a:xfrm>
            <a:off x="995400" y="1790280"/>
            <a:ext cx="7772400" cy="4095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7AB94-0A81-4783-A3AC-B31C45F96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1" name="PlaceHolder 2"/>
          <p:cNvSpPr>
            <a:spLocks noGrp="1"/>
          </p:cNvSpPr>
          <p:nvPr>
            <p:ph/>
          </p:nvPr>
        </p:nvSpPr>
        <p:spPr>
          <a:xfrm>
            <a:off x="995400" y="1790280"/>
            <a:ext cx="77724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DC205-4214-4F13-87D7-8AFDA652C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3"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4"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386DC-B406-43B9-8CA5-D579A3050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4CC71-5AB4-41CB-932E-2F3BFACFF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33480" y="399960"/>
            <a:ext cx="7772400" cy="5388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B3A14-2FC7-40DA-AD23-E42631786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58"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9"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0"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AE116-CBA9-4A10-98AD-927FC0F38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 name="PlaceHolder 2"/>
          <p:cNvSpPr>
            <a:spLocks noGrp="1"/>
          </p:cNvSpPr>
          <p:nvPr>
            <p:ph type="subTitle"/>
          </p:nvPr>
        </p:nvSpPr>
        <p:spPr>
          <a:xfrm>
            <a:off x="995400" y="1790280"/>
            <a:ext cx="7772400" cy="4095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0E284-9CA2-4CF6-8BAD-575C3D49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2"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3"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4" name="PlaceHolder 4"/>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A748A-99F3-4D20-82F0-102D9EAD9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66"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7"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8" name="PlaceHolder 4"/>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EC774-1029-479C-B33B-4A47340D0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0" name="PlaceHolder 2"/>
          <p:cNvSpPr>
            <a:spLocks noGrp="1"/>
          </p:cNvSpPr>
          <p:nvPr>
            <p:ph/>
          </p:nvPr>
        </p:nvSpPr>
        <p:spPr>
          <a:xfrm>
            <a:off x="995400" y="179028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1" name="PlaceHolder 3"/>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D91A0-6C2F-430E-892D-10AB4F321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3"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4"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5"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6" name="PlaceHolder 5"/>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A7D88-9E1C-4997-8ED6-FE1391567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78" name="PlaceHolder 2"/>
          <p:cNvSpPr>
            <a:spLocks noGrp="1"/>
          </p:cNvSpPr>
          <p:nvPr>
            <p:ph/>
          </p:nvPr>
        </p:nvSpPr>
        <p:spPr>
          <a:xfrm>
            <a:off x="995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79" name="PlaceHolder 3"/>
          <p:cNvSpPr>
            <a:spLocks noGrp="1"/>
          </p:cNvSpPr>
          <p:nvPr>
            <p:ph/>
          </p:nvPr>
        </p:nvSpPr>
        <p:spPr>
          <a:xfrm>
            <a:off x="362340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0" name="PlaceHolder 4"/>
          <p:cNvSpPr>
            <a:spLocks noGrp="1"/>
          </p:cNvSpPr>
          <p:nvPr>
            <p:ph/>
          </p:nvPr>
        </p:nvSpPr>
        <p:spPr>
          <a:xfrm>
            <a:off x="6251040" y="179028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1" name="PlaceHolder 5"/>
          <p:cNvSpPr>
            <a:spLocks noGrp="1"/>
          </p:cNvSpPr>
          <p:nvPr>
            <p:ph/>
          </p:nvPr>
        </p:nvSpPr>
        <p:spPr>
          <a:xfrm>
            <a:off x="995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2" name="PlaceHolder 6"/>
          <p:cNvSpPr>
            <a:spLocks noGrp="1"/>
          </p:cNvSpPr>
          <p:nvPr>
            <p:ph/>
          </p:nvPr>
        </p:nvSpPr>
        <p:spPr>
          <a:xfrm>
            <a:off x="362340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83" name="PlaceHolder 7"/>
          <p:cNvSpPr>
            <a:spLocks noGrp="1"/>
          </p:cNvSpPr>
          <p:nvPr>
            <p:ph/>
          </p:nvPr>
        </p:nvSpPr>
        <p:spPr>
          <a:xfrm>
            <a:off x="6251040" y="3929760"/>
            <a:ext cx="250236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1B9D0-CCB9-4E87-9F22-7E07AE017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9" name="PlaceHolder 2"/>
          <p:cNvSpPr>
            <a:spLocks noGrp="1"/>
          </p:cNvSpPr>
          <p:nvPr>
            <p:ph/>
          </p:nvPr>
        </p:nvSpPr>
        <p:spPr>
          <a:xfrm>
            <a:off x="995400" y="1790280"/>
            <a:ext cx="77724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F6EC5-2A34-4940-8E41-408343226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1"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2"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574C6-FFC8-479A-B94F-A90DCE09B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53EF6-64E2-4C59-9F71-FB260A730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33480" y="399960"/>
            <a:ext cx="7772400" cy="53881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D3BC9-FAFC-4F13-889E-20955516F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16"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7" name="PlaceHolder 3"/>
          <p:cNvSpPr>
            <a:spLocks noGrp="1"/>
          </p:cNvSpPr>
          <p:nvPr>
            <p:ph/>
          </p:nvPr>
        </p:nvSpPr>
        <p:spPr>
          <a:xfrm>
            <a:off x="497808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18" name="PlaceHolder 4"/>
          <p:cNvSpPr>
            <a:spLocks noGrp="1"/>
          </p:cNvSpPr>
          <p:nvPr>
            <p:ph/>
          </p:nvPr>
        </p:nvSpPr>
        <p:spPr>
          <a:xfrm>
            <a:off x="99540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517C-896D-402F-87B2-2AD047443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0" name="PlaceHolder 2"/>
          <p:cNvSpPr>
            <a:spLocks noGrp="1"/>
          </p:cNvSpPr>
          <p:nvPr>
            <p:ph/>
          </p:nvPr>
        </p:nvSpPr>
        <p:spPr>
          <a:xfrm>
            <a:off x="995400" y="1790280"/>
            <a:ext cx="3792600" cy="4095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1"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2" name="PlaceHolder 4"/>
          <p:cNvSpPr>
            <a:spLocks noGrp="1"/>
          </p:cNvSpPr>
          <p:nvPr>
            <p:ph/>
          </p:nvPr>
        </p:nvSpPr>
        <p:spPr>
          <a:xfrm>
            <a:off x="4978080" y="392976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B930-DFB9-4D2E-BF52-990F8D95F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Black"/>
            </a:endParaRPr>
          </a:p>
        </p:txBody>
      </p:sp>
      <p:sp>
        <p:nvSpPr>
          <p:cNvPr id="24" name="PlaceHolder 2"/>
          <p:cNvSpPr>
            <a:spLocks noGrp="1"/>
          </p:cNvSpPr>
          <p:nvPr>
            <p:ph/>
          </p:nvPr>
        </p:nvSpPr>
        <p:spPr>
          <a:xfrm>
            <a:off x="99540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5" name="PlaceHolder 3"/>
          <p:cNvSpPr>
            <a:spLocks noGrp="1"/>
          </p:cNvSpPr>
          <p:nvPr>
            <p:ph/>
          </p:nvPr>
        </p:nvSpPr>
        <p:spPr>
          <a:xfrm>
            <a:off x="4978080" y="1790280"/>
            <a:ext cx="37926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26" name="PlaceHolder 4"/>
          <p:cNvSpPr>
            <a:spLocks noGrp="1"/>
          </p:cNvSpPr>
          <p:nvPr>
            <p:ph/>
          </p:nvPr>
        </p:nvSpPr>
        <p:spPr>
          <a:xfrm>
            <a:off x="995400" y="3929760"/>
            <a:ext cx="7772400" cy="195336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80B8-40AF-475A-9463-F0E0309E9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1" name="PlaceHolder 2"/>
          <p:cNvSpPr>
            <a:spLocks noGrp="1"/>
          </p:cNvSpPr>
          <p:nvPr>
            <p:ph type="body"/>
          </p:nvPr>
        </p:nvSpPr>
        <p:spPr>
          <a:xfrm>
            <a:off x="995400" y="1790280"/>
            <a:ext cx="7772400" cy="4095720"/>
          </a:xfrm>
          <a:prstGeom prst="rect">
            <a:avLst/>
          </a:prstGeom>
          <a:noFill/>
          <a:ln w="0">
            <a:noFill/>
          </a:ln>
        </p:spPr>
        <p:txBody>
          <a:bodyPr lIns="92160" rIns="92160" tIns="46080" bIns="46080" anchor="t">
            <a:normAutofit fontScale="88000"/>
          </a:bodyPr>
          <a:p>
            <a:pPr marL="301680" indent="-3016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Click to edit the outline text format</a:t>
            </a:r>
            <a:endParaRPr b="0" lang="en-US" sz="3600" spc="-1" strike="noStrike">
              <a:solidFill>
                <a:srgbClr val="663300"/>
              </a:solidFill>
              <a:latin typeface="Arial"/>
            </a:endParaRPr>
          </a:p>
          <a:p>
            <a:pPr lvl="1" marL="653760" indent="-251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cond Outline Level</a:t>
            </a:r>
            <a:endParaRPr b="0" lang="en-US" sz="3600" spc="-1" strike="noStrike">
              <a:solidFill>
                <a:srgbClr val="663300"/>
              </a:solidFill>
              <a:latin typeface="Arial"/>
            </a:endParaRPr>
          </a:p>
          <a:p>
            <a:pPr lvl="2" marL="1005840" indent="-200880">
              <a:spcBef>
                <a:spcPts val="9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Third Outline Level</a:t>
            </a:r>
            <a:endParaRPr b="0" lang="en-US" sz="3600" spc="-1" strike="noStrike">
              <a:solidFill>
                <a:srgbClr val="663300"/>
              </a:solidFill>
              <a:latin typeface="Arial"/>
            </a:endParaRPr>
          </a:p>
          <a:p>
            <a:pPr lvl="3" marL="140796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ourth Outline Level</a:t>
            </a:r>
            <a:endParaRPr b="0" lang="en-US" sz="3600" spc="-1" strike="noStrike">
              <a:solidFill>
                <a:srgbClr val="663300"/>
              </a:solidFill>
              <a:latin typeface="Arial"/>
            </a:endParaRPr>
          </a:p>
          <a:p>
            <a:pPr lvl="4"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ifth Outline Level</a:t>
            </a:r>
            <a:endParaRPr b="0" lang="en-US" sz="3600" spc="-1" strike="noStrike">
              <a:solidFill>
                <a:srgbClr val="663300"/>
              </a:solidFill>
              <a:latin typeface="Arial"/>
            </a:endParaRPr>
          </a:p>
          <a:p>
            <a:pPr lvl="5"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ixth Outline Level</a:t>
            </a:r>
            <a:endParaRPr b="0" lang="en-US" sz="3600" spc="-1" strike="noStrike">
              <a:solidFill>
                <a:srgbClr val="663300"/>
              </a:solidFill>
              <a:latin typeface="Arial"/>
            </a:endParaRPr>
          </a:p>
          <a:p>
            <a:pPr lvl="6"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venth Outline Level</a:t>
            </a:r>
            <a:endParaRPr b="0" lang="en-US" sz="3600" spc="-1" strike="noStrike">
              <a:solidFill>
                <a:srgbClr val="663300"/>
              </a:solidFill>
              <a:latin typeface="Arial"/>
            </a:endParaRPr>
          </a:p>
        </p:txBody>
      </p:sp>
      <p:sp>
        <p:nvSpPr>
          <p:cNvPr id="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3F08-DEB0-4662-8FAA-58893158DE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1143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Click to edit the title text format</a:t>
            </a:r>
            <a:endParaRPr b="0" lang="en-US" sz="4400" spc="-1" strike="noStrike">
              <a:solidFill>
                <a:srgbClr val="003300"/>
              </a:solidFill>
              <a:latin typeface="Arial Black"/>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C6B8-29D5-472E-ADDD-0746BF59C2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0" y="0"/>
            <a:ext cx="1143000" cy="685800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87000"/>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Click to edit the outline text format</a:t>
            </a:r>
            <a:endParaRPr b="0" lang="en-US" sz="3600" spc="-1" strike="noStrike">
              <a:solidFill>
                <a:srgbClr val="663300"/>
              </a:solidFill>
              <a:latin typeface="Arial"/>
            </a:endParaRPr>
          </a:p>
          <a:p>
            <a:pPr lvl="1" marL="397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cond Outline Level</a:t>
            </a:r>
            <a:endParaRPr b="0" lang="en-US" sz="3600" spc="-1" strike="noStrike">
              <a:solidFill>
                <a:srgbClr val="663300"/>
              </a:solidFill>
              <a:latin typeface="Arial"/>
            </a:endParaRPr>
          </a:p>
          <a:p>
            <a:pPr lvl="2" marL="795240" algn="ctr">
              <a:spcBef>
                <a:spcPts val="901"/>
              </a:spcBef>
              <a:buClr>
                <a:srgbClr val="ff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Third Outline Level</a:t>
            </a:r>
            <a:endParaRPr b="0" lang="en-US" sz="3600" spc="-1" strike="noStrike">
              <a:solidFill>
                <a:srgbClr val="663300"/>
              </a:solidFill>
              <a:latin typeface="Arial"/>
            </a:endParaRPr>
          </a:p>
          <a:p>
            <a:pPr lvl="3" marL="1193040" algn="ctr">
              <a:spcBef>
                <a:spcPts val="9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ourth Outline Level</a:t>
            </a:r>
            <a:endParaRPr b="0" lang="en-US" sz="3600" spc="-1" strike="noStrike">
              <a:solidFill>
                <a:srgbClr val="663300"/>
              </a:solidFill>
              <a:latin typeface="Arial"/>
            </a:endParaRPr>
          </a:p>
          <a:p>
            <a:pPr lvl="4" marL="1590840" algn="ctr">
              <a:spcBef>
                <a:spcPts val="9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ifth Outline Level</a:t>
            </a:r>
            <a:endParaRPr b="0" lang="en-US" sz="3600" spc="-1" strike="noStrike">
              <a:solidFill>
                <a:srgbClr val="663300"/>
              </a:solidFill>
              <a:latin typeface="Arial"/>
            </a:endParaRPr>
          </a:p>
          <a:p>
            <a:pPr lvl="5" marL="1590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ixth Outline Level</a:t>
            </a:r>
            <a:endParaRPr b="0" lang="en-US" sz="3600" spc="-1" strike="noStrike">
              <a:solidFill>
                <a:srgbClr val="663300"/>
              </a:solidFill>
              <a:latin typeface="Arial"/>
            </a:endParaRPr>
          </a:p>
          <a:p>
            <a:pPr lvl="6" marL="1590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Seventh Outline Level</a:t>
            </a:r>
            <a:endParaRPr b="0" lang="en-US" sz="36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33480" y="-648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EACHER NOTES</a:t>
            </a:r>
            <a:endParaRPr b="0" lang="en-US" sz="4400" spc="-1" strike="noStrike">
              <a:solidFill>
                <a:srgbClr val="003300"/>
              </a:solidFill>
              <a:latin typeface="Arial Black"/>
            </a:endParaRPr>
          </a:p>
        </p:txBody>
      </p:sp>
      <p:sp>
        <p:nvSpPr>
          <p:cNvPr id="92" name="PlaceHolder 2"/>
          <p:cNvSpPr>
            <a:spLocks noGrp="1"/>
          </p:cNvSpPr>
          <p:nvPr>
            <p:ph/>
          </p:nvPr>
        </p:nvSpPr>
        <p:spPr>
          <a:xfrm>
            <a:off x="769680" y="942480"/>
            <a:ext cx="8297640" cy="591516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Go through the slide show beforehand in notes view as well as regular slide-show. The notes help with additional information &amp; discussion.</a:t>
            </a:r>
            <a:endParaRPr b="0" lang="en-US" sz="3200" spc="-1" strike="noStrike">
              <a:solidFill>
                <a:srgbClr val="663300"/>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You can print a 6-slides-per-page or 3-slides-per-page handout and make your own notes from the slide presentation. </a:t>
            </a:r>
            <a:endParaRPr b="0" lang="en-US" sz="3200" spc="-1" strike="noStrike">
              <a:solidFill>
                <a:srgbClr val="663300"/>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You may want to print the notes pages of the slides. However, the notes pages have the slide (one per page) </a:t>
            </a:r>
            <a:endParaRPr b="0" lang="en-US" sz="3200" spc="-1" strike="noStrike">
              <a:solidFill>
                <a:srgbClr val="663300"/>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You may want to use this PPT as a review to check for student understanding.</a:t>
            </a:r>
            <a:endParaRPr b="0" lang="en-US" sz="32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Biomass</a:t>
            </a:r>
            <a:endParaRPr b="0" lang="en-US" sz="4400" spc="-1" strike="noStrike">
              <a:solidFill>
                <a:srgbClr val="003300"/>
              </a:solidFill>
              <a:latin typeface="Arial Black"/>
            </a:endParaRPr>
          </a:p>
        </p:txBody>
      </p:sp>
      <p:sp>
        <p:nvSpPr>
          <p:cNvPr id="124" name="PlaceHolder 2"/>
          <p:cNvSpPr>
            <a:spLocks noGrp="1"/>
          </p:cNvSpPr>
          <p:nvPr>
            <p:ph/>
          </p:nvPr>
        </p:nvSpPr>
        <p:spPr>
          <a:xfrm>
            <a:off x="1025640" y="1023840"/>
            <a:ext cx="7704000" cy="1617840"/>
          </a:xfrm>
          <a:prstGeom prst="rect">
            <a:avLst/>
          </a:prstGeom>
          <a:noFill/>
          <a:ln w="0">
            <a:noFill/>
          </a:ln>
        </p:spPr>
        <p:txBody>
          <a:bodyPr lIns="92160" rIns="92160" tIns="46080" bIns="46080" anchor="t">
            <a:normAutofit fontScale="92000"/>
          </a:bodyPr>
          <a:p>
            <a:pPr marL="315360" indent="-31536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information would this pyramid include if it were a pyramid of biomass?</a:t>
            </a:r>
            <a:endParaRPr b="0" lang="en-US" sz="3600" spc="-1" strike="noStrike">
              <a:solidFill>
                <a:srgbClr val="663300"/>
              </a:solidFill>
              <a:latin typeface="Arial"/>
            </a:endParaRPr>
          </a:p>
        </p:txBody>
      </p:sp>
      <p:sp>
        <p:nvSpPr>
          <p:cNvPr id="125" name="PlaceHolder 3"/>
          <p:cNvSpPr>
            <a:spLocks noGrp="1"/>
          </p:cNvSpPr>
          <p:nvPr>
            <p:ph/>
          </p:nvPr>
        </p:nvSpPr>
        <p:spPr>
          <a:xfrm>
            <a:off x="977760" y="3071880"/>
            <a:ext cx="3515040" cy="30477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do they get a number total for the biomass of a population?</a:t>
            </a:r>
            <a:endParaRPr b="0" lang="en-US" sz="3600" spc="-1" strike="noStrike">
              <a:solidFill>
                <a:srgbClr val="663300"/>
              </a:solidFill>
              <a:latin typeface="Arial"/>
            </a:endParaRPr>
          </a:p>
        </p:txBody>
      </p:sp>
      <p:pic>
        <p:nvPicPr>
          <p:cNvPr id="126" name="" descr=""/>
          <p:cNvPicPr/>
          <p:nvPr/>
        </p:nvPicPr>
        <p:blipFill>
          <a:blip r:embed="rId1"/>
          <a:stretch/>
        </p:blipFill>
        <p:spPr>
          <a:xfrm>
            <a:off x="4591080" y="2290680"/>
            <a:ext cx="4389480" cy="44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Numbers</a:t>
            </a:r>
            <a:endParaRPr b="0" lang="en-US" sz="4400" spc="-1" strike="noStrike">
              <a:solidFill>
                <a:srgbClr val="003300"/>
              </a:solidFill>
              <a:latin typeface="Arial Black"/>
            </a:endParaRPr>
          </a:p>
        </p:txBody>
      </p:sp>
      <p:sp>
        <p:nvSpPr>
          <p:cNvPr id="128" name="PlaceHolder 2"/>
          <p:cNvSpPr>
            <a:spLocks noGrp="1"/>
          </p:cNvSpPr>
          <p:nvPr>
            <p:ph/>
          </p:nvPr>
        </p:nvSpPr>
        <p:spPr>
          <a:xfrm>
            <a:off x="1025640" y="1023840"/>
            <a:ext cx="7704000" cy="1617840"/>
          </a:xfrm>
          <a:prstGeom prst="rect">
            <a:avLst/>
          </a:prstGeom>
          <a:noFill/>
          <a:ln w="0">
            <a:noFill/>
          </a:ln>
        </p:spPr>
        <p:txBody>
          <a:bodyPr lIns="92160" rIns="92160" tIns="46080" bIns="46080" anchor="t">
            <a:normAutofit fontScale="92000"/>
          </a:bodyPr>
          <a:p>
            <a:pPr marL="315360" indent="-31536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information would this pyramid include if it were a pyramid of numbers?</a:t>
            </a:r>
            <a:endParaRPr b="0" lang="en-US" sz="3600" spc="-1" strike="noStrike">
              <a:solidFill>
                <a:srgbClr val="663300"/>
              </a:solidFill>
              <a:latin typeface="Arial"/>
            </a:endParaRPr>
          </a:p>
        </p:txBody>
      </p:sp>
      <p:sp>
        <p:nvSpPr>
          <p:cNvPr id="129" name="PlaceHolder 3"/>
          <p:cNvSpPr>
            <a:spLocks noGrp="1"/>
          </p:cNvSpPr>
          <p:nvPr>
            <p:ph/>
          </p:nvPr>
        </p:nvSpPr>
        <p:spPr>
          <a:xfrm>
            <a:off x="977760" y="3071880"/>
            <a:ext cx="3515040" cy="30477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do they get a number total for a population of organisms?</a:t>
            </a:r>
            <a:endParaRPr b="0" lang="en-US" sz="3600" spc="-1" strike="noStrike">
              <a:solidFill>
                <a:srgbClr val="663300"/>
              </a:solidFill>
              <a:latin typeface="Arial"/>
            </a:endParaRPr>
          </a:p>
        </p:txBody>
      </p:sp>
      <p:pic>
        <p:nvPicPr>
          <p:cNvPr id="130" name="" descr=""/>
          <p:cNvPicPr/>
          <p:nvPr/>
        </p:nvPicPr>
        <p:blipFill>
          <a:blip r:embed="rId1"/>
          <a:stretch/>
        </p:blipFill>
        <p:spPr>
          <a:xfrm>
            <a:off x="4591080" y="2290680"/>
            <a:ext cx="4389480" cy="440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828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32" name="PlaceHolder 2"/>
          <p:cNvSpPr>
            <a:spLocks noGrp="1"/>
          </p:cNvSpPr>
          <p:nvPr>
            <p:ph/>
          </p:nvPr>
        </p:nvSpPr>
        <p:spPr>
          <a:xfrm>
            <a:off x="995040" y="1206000"/>
            <a:ext cx="8148600" cy="120492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y is a pyramid used to represent these feeding relationships?</a:t>
            </a:r>
            <a:endParaRPr b="0" lang="en-US" sz="3600" spc="-1" strike="noStrike">
              <a:solidFill>
                <a:srgbClr val="663300"/>
              </a:solidFill>
              <a:latin typeface="Arial"/>
            </a:endParaRPr>
          </a:p>
        </p:txBody>
      </p:sp>
      <p:sp>
        <p:nvSpPr>
          <p:cNvPr id="133" name="PlaceHolder 3"/>
          <p:cNvSpPr>
            <a:spLocks noGrp="1"/>
          </p:cNvSpPr>
          <p:nvPr>
            <p:ph/>
          </p:nvPr>
        </p:nvSpPr>
        <p:spPr>
          <a:xfrm>
            <a:off x="975960" y="2406240"/>
            <a:ext cx="7666200" cy="267012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is this also a pyramid?</a:t>
            </a: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xplain what happens to the mass, numbers,and energy from trophic level to trophic level.</a:t>
            </a:r>
            <a:endParaRPr b="0" lang="en-US" sz="3600" spc="-1" strike="noStrike">
              <a:solidFill>
                <a:srgbClr val="663300"/>
              </a:solidFill>
              <a:latin typeface="Arial"/>
            </a:endParaRPr>
          </a:p>
        </p:txBody>
      </p:sp>
      <p:grpSp>
        <p:nvGrpSpPr>
          <p:cNvPr id="134" name=""/>
          <p:cNvGrpSpPr/>
          <p:nvPr/>
        </p:nvGrpSpPr>
        <p:grpSpPr>
          <a:xfrm>
            <a:off x="3790800" y="4667400"/>
            <a:ext cx="5027760" cy="1885680"/>
            <a:chOff x="3790800" y="4667400"/>
            <a:chExt cx="5027760" cy="1885680"/>
          </a:xfrm>
        </p:grpSpPr>
        <p:sp>
          <p:nvSpPr>
            <p:cNvPr id="135" name=""/>
            <p:cNvSpPr/>
            <p:nvPr/>
          </p:nvSpPr>
          <p:spPr>
            <a:xfrm>
              <a:off x="3790800" y="6095880"/>
              <a:ext cx="50277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933800" y="5619960"/>
              <a:ext cx="274176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846760" y="5143680"/>
              <a:ext cx="91440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189840" y="4667400"/>
              <a:ext cx="22860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40" name="PlaceHolder 2"/>
          <p:cNvSpPr>
            <a:spLocks noGrp="1"/>
          </p:cNvSpPr>
          <p:nvPr>
            <p:ph/>
          </p:nvPr>
        </p:nvSpPr>
        <p:spPr>
          <a:xfrm>
            <a:off x="995040" y="1244520"/>
            <a:ext cx="7505640" cy="33530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is different about this pyramid?</a:t>
            </a: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can the producer level be so small and support the trophic levels above it?</a:t>
            </a:r>
            <a:endParaRPr b="0" lang="en-US" sz="3600" spc="-1" strike="noStrike">
              <a:solidFill>
                <a:srgbClr val="663300"/>
              </a:solidFill>
              <a:latin typeface="Arial"/>
            </a:endParaRPr>
          </a:p>
        </p:txBody>
      </p:sp>
      <p:grpSp>
        <p:nvGrpSpPr>
          <p:cNvPr id="141" name=""/>
          <p:cNvGrpSpPr/>
          <p:nvPr/>
        </p:nvGrpSpPr>
        <p:grpSpPr>
          <a:xfrm>
            <a:off x="4933800" y="4724280"/>
            <a:ext cx="2741760" cy="1885680"/>
            <a:chOff x="4933800" y="4724280"/>
            <a:chExt cx="2741760" cy="1885680"/>
          </a:xfrm>
        </p:grpSpPr>
        <p:sp>
          <p:nvSpPr>
            <p:cNvPr id="142" name=""/>
            <p:cNvSpPr/>
            <p:nvPr/>
          </p:nvSpPr>
          <p:spPr>
            <a:xfrm>
              <a:off x="6213600" y="6152760"/>
              <a:ext cx="18252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933800" y="5676480"/>
              <a:ext cx="274176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846760" y="5200560"/>
              <a:ext cx="91440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189840" y="4724280"/>
              <a:ext cx="22860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3480" y="177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s of Aquatic Ecosystems</a:t>
            </a:r>
            <a:endParaRPr b="0" lang="en-US" sz="4400" spc="-1" strike="noStrike">
              <a:solidFill>
                <a:srgbClr val="003300"/>
              </a:solidFill>
              <a:latin typeface="Arial Black"/>
            </a:endParaRPr>
          </a:p>
        </p:txBody>
      </p:sp>
      <p:sp>
        <p:nvSpPr>
          <p:cNvPr id="147" name="PlaceHolder 2"/>
          <p:cNvSpPr>
            <a:spLocks noGrp="1"/>
          </p:cNvSpPr>
          <p:nvPr>
            <p:ph/>
          </p:nvPr>
        </p:nvSpPr>
        <p:spPr>
          <a:xfrm>
            <a:off x="1579680" y="1574280"/>
            <a:ext cx="2730240" cy="469908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Number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Biomas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nergy</a:t>
            </a:r>
            <a:endParaRPr b="0" lang="en-US" sz="3600" spc="-1" strike="noStrike">
              <a:solidFill>
                <a:srgbClr val="663300"/>
              </a:solidFill>
              <a:latin typeface="Arial"/>
            </a:endParaRPr>
          </a:p>
        </p:txBody>
      </p:sp>
      <p:grpSp>
        <p:nvGrpSpPr>
          <p:cNvPr id="148" name=""/>
          <p:cNvGrpSpPr/>
          <p:nvPr/>
        </p:nvGrpSpPr>
        <p:grpSpPr>
          <a:xfrm>
            <a:off x="5475240" y="3149640"/>
            <a:ext cx="2065320" cy="1420920"/>
            <a:chOff x="5475240" y="3149640"/>
            <a:chExt cx="2065320" cy="1420920"/>
          </a:xfrm>
        </p:grpSpPr>
        <p:sp>
          <p:nvSpPr>
            <p:cNvPr id="149" name=""/>
            <p:cNvSpPr/>
            <p:nvPr/>
          </p:nvSpPr>
          <p:spPr>
            <a:xfrm>
              <a:off x="6439320" y="4226040"/>
              <a:ext cx="137160" cy="34452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475240" y="3867120"/>
              <a:ext cx="2065320" cy="34452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162840" y="3508200"/>
              <a:ext cx="688680" cy="3445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421320" y="3149640"/>
              <a:ext cx="172080" cy="34452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 name=""/>
          <p:cNvGrpSpPr/>
          <p:nvPr/>
        </p:nvGrpSpPr>
        <p:grpSpPr>
          <a:xfrm>
            <a:off x="4616280" y="1365120"/>
            <a:ext cx="3784680" cy="1419480"/>
            <a:chOff x="4616280" y="1365120"/>
            <a:chExt cx="3784680" cy="1419480"/>
          </a:xfrm>
        </p:grpSpPr>
        <p:sp>
          <p:nvSpPr>
            <p:cNvPr id="154" name=""/>
            <p:cNvSpPr/>
            <p:nvPr/>
          </p:nvSpPr>
          <p:spPr>
            <a:xfrm>
              <a:off x="4616280" y="2440440"/>
              <a:ext cx="378468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5476680" y="2081880"/>
              <a:ext cx="206388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163920" y="1723320"/>
              <a:ext cx="68832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422040" y="13651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 name=""/>
          <p:cNvGrpSpPr/>
          <p:nvPr/>
        </p:nvGrpSpPr>
        <p:grpSpPr>
          <a:xfrm>
            <a:off x="4616280" y="4997520"/>
            <a:ext cx="3784680" cy="1418760"/>
            <a:chOff x="4616280" y="4997520"/>
            <a:chExt cx="3784680" cy="1418760"/>
          </a:xfrm>
        </p:grpSpPr>
        <p:sp>
          <p:nvSpPr>
            <p:cNvPr id="159" name=""/>
            <p:cNvSpPr/>
            <p:nvPr/>
          </p:nvSpPr>
          <p:spPr>
            <a:xfrm>
              <a:off x="4616280" y="6072480"/>
              <a:ext cx="3784680" cy="343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5476680" y="5714280"/>
              <a:ext cx="2063880" cy="3438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163920" y="5355720"/>
              <a:ext cx="688320" cy="343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6422040" y="4997520"/>
              <a:ext cx="172080" cy="3438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63" name="" descr=""/>
          <p:cNvPicPr/>
          <p:nvPr/>
        </p:nvPicPr>
        <p:blipFill>
          <a:blip r:embed="rId1"/>
          <a:stretch/>
        </p:blipFill>
        <p:spPr>
          <a:xfrm>
            <a:off x="841320" y="3665520"/>
            <a:ext cx="804960" cy="48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33480" y="177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s of Temperate Forests</a:t>
            </a:r>
            <a:endParaRPr b="0" lang="en-US" sz="4400" spc="-1" strike="noStrike">
              <a:solidFill>
                <a:srgbClr val="003300"/>
              </a:solidFill>
              <a:latin typeface="Arial Black"/>
            </a:endParaRPr>
          </a:p>
        </p:txBody>
      </p:sp>
      <p:sp>
        <p:nvSpPr>
          <p:cNvPr id="165" name="PlaceHolder 2"/>
          <p:cNvSpPr>
            <a:spLocks noGrp="1"/>
          </p:cNvSpPr>
          <p:nvPr>
            <p:ph/>
          </p:nvPr>
        </p:nvSpPr>
        <p:spPr>
          <a:xfrm>
            <a:off x="1477800" y="1574280"/>
            <a:ext cx="2857680" cy="469908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Number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Biomass</a:t>
            </a: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Energy</a:t>
            </a:r>
            <a:endParaRPr b="0" lang="en-US" sz="3600" spc="-1" strike="noStrike">
              <a:solidFill>
                <a:srgbClr val="663300"/>
              </a:solidFill>
              <a:latin typeface="Arial"/>
            </a:endParaRPr>
          </a:p>
        </p:txBody>
      </p:sp>
      <p:grpSp>
        <p:nvGrpSpPr>
          <p:cNvPr id="166" name=""/>
          <p:cNvGrpSpPr/>
          <p:nvPr/>
        </p:nvGrpSpPr>
        <p:grpSpPr>
          <a:xfrm>
            <a:off x="5475240" y="1447920"/>
            <a:ext cx="2065320" cy="1420200"/>
            <a:chOff x="5475240" y="1447920"/>
            <a:chExt cx="2065320" cy="1420200"/>
          </a:xfrm>
        </p:grpSpPr>
        <p:sp>
          <p:nvSpPr>
            <p:cNvPr id="167" name=""/>
            <p:cNvSpPr/>
            <p:nvPr/>
          </p:nvSpPr>
          <p:spPr>
            <a:xfrm>
              <a:off x="6439320" y="2523960"/>
              <a:ext cx="13716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475240" y="2165040"/>
              <a:ext cx="206532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162840" y="1806480"/>
              <a:ext cx="68868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421320" y="14479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1" name=""/>
          <p:cNvGrpSpPr/>
          <p:nvPr/>
        </p:nvGrpSpPr>
        <p:grpSpPr>
          <a:xfrm>
            <a:off x="4616280" y="3193920"/>
            <a:ext cx="3784680" cy="1419480"/>
            <a:chOff x="4616280" y="3193920"/>
            <a:chExt cx="3784680" cy="1419480"/>
          </a:xfrm>
        </p:grpSpPr>
        <p:sp>
          <p:nvSpPr>
            <p:cNvPr id="172" name=""/>
            <p:cNvSpPr/>
            <p:nvPr/>
          </p:nvSpPr>
          <p:spPr>
            <a:xfrm>
              <a:off x="4616280" y="4269240"/>
              <a:ext cx="3784680" cy="3441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476680" y="3910680"/>
              <a:ext cx="2063880" cy="344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163920" y="3552120"/>
              <a:ext cx="688320" cy="344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6422040" y="3193920"/>
              <a:ext cx="172080" cy="34416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6" name=""/>
          <p:cNvGrpSpPr/>
          <p:nvPr/>
        </p:nvGrpSpPr>
        <p:grpSpPr>
          <a:xfrm>
            <a:off x="4616280" y="4921200"/>
            <a:ext cx="3784680" cy="1418760"/>
            <a:chOff x="4616280" y="4921200"/>
            <a:chExt cx="3784680" cy="1418760"/>
          </a:xfrm>
        </p:grpSpPr>
        <p:sp>
          <p:nvSpPr>
            <p:cNvPr id="177" name=""/>
            <p:cNvSpPr/>
            <p:nvPr/>
          </p:nvSpPr>
          <p:spPr>
            <a:xfrm>
              <a:off x="4616280" y="5996160"/>
              <a:ext cx="3784680" cy="3438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476680" y="5637960"/>
              <a:ext cx="2063880" cy="3438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163920" y="5279400"/>
              <a:ext cx="688320" cy="3438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422040" y="4921200"/>
              <a:ext cx="172080" cy="3438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81" name="" descr=""/>
          <p:cNvPicPr/>
          <p:nvPr/>
        </p:nvPicPr>
        <p:blipFill>
          <a:blip r:embed="rId1"/>
          <a:stretch/>
        </p:blipFill>
        <p:spPr>
          <a:xfrm>
            <a:off x="714240" y="1684440"/>
            <a:ext cx="80496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83" name="PlaceHolder 2"/>
          <p:cNvSpPr>
            <a:spLocks noGrp="1"/>
          </p:cNvSpPr>
          <p:nvPr>
            <p:ph/>
          </p:nvPr>
        </p:nvSpPr>
        <p:spPr>
          <a:xfrm>
            <a:off x="995040" y="1066320"/>
            <a:ext cx="6095880" cy="12956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is this an ecological pyramid?</a:t>
            </a:r>
            <a:endParaRPr b="0" lang="en-US" sz="3600" spc="-1" strike="noStrike">
              <a:solidFill>
                <a:srgbClr val="663300"/>
              </a:solidFill>
              <a:latin typeface="Arial"/>
            </a:endParaRPr>
          </a:p>
        </p:txBody>
      </p:sp>
      <p:grpSp>
        <p:nvGrpSpPr>
          <p:cNvPr id="184" name=""/>
          <p:cNvGrpSpPr/>
          <p:nvPr/>
        </p:nvGrpSpPr>
        <p:grpSpPr>
          <a:xfrm>
            <a:off x="6229440" y="781200"/>
            <a:ext cx="2741400" cy="1885680"/>
            <a:chOff x="6229440" y="781200"/>
            <a:chExt cx="2741400" cy="1885680"/>
          </a:xfrm>
        </p:grpSpPr>
        <p:sp>
          <p:nvSpPr>
            <p:cNvPr id="185" name=""/>
            <p:cNvSpPr/>
            <p:nvPr/>
          </p:nvSpPr>
          <p:spPr>
            <a:xfrm>
              <a:off x="7508880" y="2209680"/>
              <a:ext cx="182160" cy="45720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229440" y="1733400"/>
              <a:ext cx="2741400" cy="45720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142040" y="1257480"/>
              <a:ext cx="91404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7485120" y="781200"/>
              <a:ext cx="228240" cy="457200"/>
            </a:xfrm>
            <a:prstGeom prst="rect">
              <a:avLst/>
            </a:prstGeom>
            <a:solidFill>
              <a:srgbClr val="9933ff"/>
            </a:soli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89" name="food-pyramid_martinez" descr=""/>
          <p:cNvPicPr/>
          <p:nvPr/>
        </p:nvPicPr>
        <p:blipFill>
          <a:blip r:embed="rId1"/>
          <a:stretch/>
        </p:blipFill>
        <p:spPr>
          <a:xfrm>
            <a:off x="1406520" y="2282760"/>
            <a:ext cx="5592600" cy="419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Ultimate Predator?</a:t>
            </a:r>
            <a:endParaRPr b="0" lang="en-US" sz="4400" spc="-1" strike="noStrike">
              <a:solidFill>
                <a:srgbClr val="003300"/>
              </a:solidFill>
              <a:latin typeface="Arial Black"/>
            </a:endParaRPr>
          </a:p>
        </p:txBody>
      </p:sp>
      <p:sp>
        <p:nvSpPr>
          <p:cNvPr id="191" name="PlaceHolder 2"/>
          <p:cNvSpPr>
            <a:spLocks noGrp="1"/>
          </p:cNvSpPr>
          <p:nvPr>
            <p:ph/>
          </p:nvPr>
        </p:nvSpPr>
        <p:spPr>
          <a:xfrm>
            <a:off x="1020600" y="1000080"/>
            <a:ext cx="4608720" cy="219384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y is man sometimes called the “Ultimate Predator”?</a:t>
            </a:r>
            <a:endParaRPr b="0" lang="en-US" sz="3600" spc="-1" strike="noStrike">
              <a:solidFill>
                <a:srgbClr val="663300"/>
              </a:solidFill>
              <a:latin typeface="Arial"/>
            </a:endParaRPr>
          </a:p>
        </p:txBody>
      </p:sp>
      <p:grpSp>
        <p:nvGrpSpPr>
          <p:cNvPr id="192" name=""/>
          <p:cNvGrpSpPr/>
          <p:nvPr/>
        </p:nvGrpSpPr>
        <p:grpSpPr>
          <a:xfrm>
            <a:off x="2776680" y="1117440"/>
            <a:ext cx="6164280" cy="5435640"/>
            <a:chOff x="2776680" y="1117440"/>
            <a:chExt cx="6164280" cy="5435640"/>
          </a:xfrm>
        </p:grpSpPr>
        <p:grpSp>
          <p:nvGrpSpPr>
            <p:cNvPr id="193" name=""/>
            <p:cNvGrpSpPr/>
            <p:nvPr/>
          </p:nvGrpSpPr>
          <p:grpSpPr>
            <a:xfrm>
              <a:off x="2776680" y="1512720"/>
              <a:ext cx="5657040" cy="4983120"/>
              <a:chOff x="2776680" y="1512720"/>
              <a:chExt cx="5657040" cy="4983120"/>
            </a:xfrm>
          </p:grpSpPr>
          <p:grpSp>
            <p:nvGrpSpPr>
              <p:cNvPr id="194" name=""/>
              <p:cNvGrpSpPr/>
              <p:nvPr/>
            </p:nvGrpSpPr>
            <p:grpSpPr>
              <a:xfrm>
                <a:off x="2776680" y="3562920"/>
                <a:ext cx="1085760" cy="1735560"/>
                <a:chOff x="2776680" y="3562920"/>
                <a:chExt cx="1085760" cy="1735560"/>
              </a:xfrm>
            </p:grpSpPr>
            <p:grpSp>
              <p:nvGrpSpPr>
                <p:cNvPr id="195" name=""/>
                <p:cNvGrpSpPr/>
                <p:nvPr/>
              </p:nvGrpSpPr>
              <p:grpSpPr>
                <a:xfrm>
                  <a:off x="2776680" y="3562920"/>
                  <a:ext cx="1085760" cy="1042920"/>
                  <a:chOff x="2776680" y="3562920"/>
                  <a:chExt cx="1085760" cy="1042920"/>
                </a:xfrm>
              </p:grpSpPr>
              <p:grpSp>
                <p:nvGrpSpPr>
                  <p:cNvPr id="196" name=""/>
                  <p:cNvGrpSpPr/>
                  <p:nvPr/>
                </p:nvGrpSpPr>
                <p:grpSpPr>
                  <a:xfrm>
                    <a:off x="2776680" y="3562920"/>
                    <a:ext cx="1085760" cy="872640"/>
                    <a:chOff x="2776680" y="3562920"/>
                    <a:chExt cx="1085760" cy="872640"/>
                  </a:xfrm>
                </p:grpSpPr>
                <p:sp>
                  <p:nvSpPr>
                    <p:cNvPr id="197" name=""/>
                    <p:cNvSpPr/>
                    <p:nvPr/>
                  </p:nvSpPr>
                  <p:spPr>
                    <a:xfrm rot="17731800">
                      <a:off x="3366360" y="3837600"/>
                      <a:ext cx="275760" cy="661320"/>
                    </a:xfrm>
                    <a:custGeom>
                      <a:avLst/>
                      <a:gdLst/>
                      <a:ahLst/>
                      <a:rect l="l" t="t" r="r" b="b"/>
                      <a:pathLst>
                        <a:path w="347" h="832">
                          <a:moveTo>
                            <a:pt x="88" y="30"/>
                          </a:moveTo>
                          <a:cubicBezTo>
                            <a:pt x="69" y="55"/>
                            <a:pt x="62" y="109"/>
                            <a:pt x="52" y="162"/>
                          </a:cubicBezTo>
                          <a:cubicBezTo>
                            <a:pt x="42" y="215"/>
                            <a:pt x="31" y="294"/>
                            <a:pt x="25" y="351"/>
                          </a:cubicBezTo>
                          <a:cubicBezTo>
                            <a:pt x="19" y="408"/>
                            <a:pt x="19" y="447"/>
                            <a:pt x="16" y="504"/>
                          </a:cubicBezTo>
                          <a:cubicBezTo>
                            <a:pt x="13" y="561"/>
                            <a:pt x="0" y="642"/>
                            <a:pt x="7" y="693"/>
                          </a:cubicBezTo>
                          <a:cubicBezTo>
                            <a:pt x="14" y="744"/>
                            <a:pt x="25" y="794"/>
                            <a:pt x="61" y="813"/>
                          </a:cubicBezTo>
                          <a:cubicBezTo>
                            <a:pt x="97" y="832"/>
                            <a:pt x="181" y="817"/>
                            <a:pt x="226" y="807"/>
                          </a:cubicBezTo>
                          <a:cubicBezTo>
                            <a:pt x="271" y="797"/>
                            <a:pt x="321" y="779"/>
                            <a:pt x="334" y="753"/>
                          </a:cubicBezTo>
                          <a:cubicBezTo>
                            <a:pt x="347" y="727"/>
                            <a:pt x="308" y="705"/>
                            <a:pt x="301" y="651"/>
                          </a:cubicBezTo>
                          <a:cubicBezTo>
                            <a:pt x="294" y="597"/>
                            <a:pt x="292" y="494"/>
                            <a:pt x="289" y="429"/>
                          </a:cubicBezTo>
                          <a:cubicBezTo>
                            <a:pt x="286" y="364"/>
                            <a:pt x="283" y="309"/>
                            <a:pt x="283" y="258"/>
                          </a:cubicBezTo>
                          <a:cubicBezTo>
                            <a:pt x="283" y="207"/>
                            <a:pt x="287" y="160"/>
                            <a:pt x="286" y="120"/>
                          </a:cubicBezTo>
                          <a:cubicBezTo>
                            <a:pt x="285" y="80"/>
                            <a:pt x="297" y="36"/>
                            <a:pt x="277" y="18"/>
                          </a:cubicBezTo>
                          <a:cubicBezTo>
                            <a:pt x="257" y="0"/>
                            <a:pt x="196" y="9"/>
                            <a:pt x="166" y="9"/>
                          </a:cubicBezTo>
                          <a:cubicBezTo>
                            <a:pt x="136" y="9"/>
                            <a:pt x="107" y="5"/>
                            <a:pt x="88" y="30"/>
                          </a:cubicBezTo>
                          <a:close/>
                        </a:path>
                      </a:pathLst>
                    </a:custGeom>
                    <a:gradFill rotWithShape="0">
                      <a:gsLst>
                        <a:gs pos="0">
                          <a:srgbClr val="d7ae19"/>
                        </a:gs>
                        <a:gs pos="100000">
                          <a:srgbClr val="ae8000"/>
                        </a:gs>
                      </a:gsLst>
                      <a:lin ang="5400000"/>
                    </a:gradFill>
                    <a:ln w="9360">
                      <a:solidFill>
                        <a:srgbClr val="d7ae1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rot="17731800">
                      <a:off x="2797560" y="3723120"/>
                      <a:ext cx="639720" cy="450000"/>
                    </a:xfrm>
                    <a:custGeom>
                      <a:avLst/>
                      <a:gdLst/>
                      <a:ahLst/>
                      <a:rect l="l" t="t" r="r" b="b"/>
                      <a:pathLst>
                        <a:path w="805" h="566">
                          <a:moveTo>
                            <a:pt x="382" y="0"/>
                          </a:moveTo>
                          <a:cubicBezTo>
                            <a:pt x="367" y="3"/>
                            <a:pt x="332" y="10"/>
                            <a:pt x="301" y="21"/>
                          </a:cubicBezTo>
                          <a:cubicBezTo>
                            <a:pt x="270" y="32"/>
                            <a:pt x="235" y="35"/>
                            <a:pt x="199" y="66"/>
                          </a:cubicBezTo>
                          <a:cubicBezTo>
                            <a:pt x="163" y="97"/>
                            <a:pt x="109" y="167"/>
                            <a:pt x="85" y="207"/>
                          </a:cubicBezTo>
                          <a:cubicBezTo>
                            <a:pt x="61" y="247"/>
                            <a:pt x="68" y="282"/>
                            <a:pt x="55" y="309"/>
                          </a:cubicBezTo>
                          <a:cubicBezTo>
                            <a:pt x="42" y="336"/>
                            <a:pt x="12" y="345"/>
                            <a:pt x="6" y="367"/>
                          </a:cubicBezTo>
                          <a:cubicBezTo>
                            <a:pt x="0" y="389"/>
                            <a:pt x="1" y="429"/>
                            <a:pt x="16" y="444"/>
                          </a:cubicBezTo>
                          <a:cubicBezTo>
                            <a:pt x="31" y="459"/>
                            <a:pt x="75" y="463"/>
                            <a:pt x="94" y="459"/>
                          </a:cubicBezTo>
                          <a:cubicBezTo>
                            <a:pt x="113" y="455"/>
                            <a:pt x="115" y="416"/>
                            <a:pt x="130" y="419"/>
                          </a:cubicBezTo>
                          <a:cubicBezTo>
                            <a:pt x="145" y="422"/>
                            <a:pt x="150" y="458"/>
                            <a:pt x="186" y="479"/>
                          </a:cubicBezTo>
                          <a:cubicBezTo>
                            <a:pt x="222" y="500"/>
                            <a:pt x="289" y="535"/>
                            <a:pt x="349" y="543"/>
                          </a:cubicBezTo>
                          <a:cubicBezTo>
                            <a:pt x="409" y="551"/>
                            <a:pt x="493" y="534"/>
                            <a:pt x="544" y="525"/>
                          </a:cubicBezTo>
                          <a:cubicBezTo>
                            <a:pt x="595" y="516"/>
                            <a:pt x="631" y="482"/>
                            <a:pt x="654" y="487"/>
                          </a:cubicBezTo>
                          <a:cubicBezTo>
                            <a:pt x="677" y="492"/>
                            <a:pt x="662" y="544"/>
                            <a:pt x="682" y="555"/>
                          </a:cubicBezTo>
                          <a:cubicBezTo>
                            <a:pt x="702" y="566"/>
                            <a:pt x="755" y="565"/>
                            <a:pt x="775" y="552"/>
                          </a:cubicBezTo>
                          <a:cubicBezTo>
                            <a:pt x="795" y="539"/>
                            <a:pt x="805" y="510"/>
                            <a:pt x="802" y="477"/>
                          </a:cubicBezTo>
                          <a:cubicBezTo>
                            <a:pt x="799" y="444"/>
                            <a:pt x="773" y="404"/>
                            <a:pt x="758" y="351"/>
                          </a:cubicBezTo>
                          <a:cubicBezTo>
                            <a:pt x="743" y="298"/>
                            <a:pt x="733" y="206"/>
                            <a:pt x="710" y="159"/>
                          </a:cubicBezTo>
                          <a:cubicBezTo>
                            <a:pt x="687" y="112"/>
                            <a:pt x="662" y="92"/>
                            <a:pt x="622" y="66"/>
                          </a:cubicBezTo>
                          <a:cubicBezTo>
                            <a:pt x="582" y="40"/>
                            <a:pt x="501" y="16"/>
                            <a:pt x="469" y="3"/>
                          </a:cubicBezTo>
                        </a:path>
                      </a:pathLst>
                    </a:custGeom>
                    <a:solidFill>
                      <a:srgbClr val="ae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 name=""/>
                  <p:cNvGrpSpPr/>
                  <p:nvPr/>
                </p:nvGrpSpPr>
                <p:grpSpPr>
                  <a:xfrm>
                    <a:off x="3116160" y="4242240"/>
                    <a:ext cx="542520" cy="363600"/>
                    <a:chOff x="3116160" y="4242240"/>
                    <a:chExt cx="542520" cy="363600"/>
                  </a:xfrm>
                </p:grpSpPr>
                <p:sp>
                  <p:nvSpPr>
                    <p:cNvPr id="200" name=""/>
                    <p:cNvSpPr/>
                    <p:nvPr/>
                  </p:nvSpPr>
                  <p:spPr>
                    <a:xfrm flipH="1" rot="16989000">
                      <a:off x="3412800" y="4293360"/>
                      <a:ext cx="138240" cy="330840"/>
                    </a:xfrm>
                    <a:custGeom>
                      <a:avLst/>
                      <a:gdLst/>
                      <a:ahLst/>
                      <a:rect l="l" t="t" r="r" b="b"/>
                      <a:pathLst>
                        <a:path w="347" h="832">
                          <a:moveTo>
                            <a:pt x="88" y="30"/>
                          </a:moveTo>
                          <a:cubicBezTo>
                            <a:pt x="69" y="55"/>
                            <a:pt x="62" y="109"/>
                            <a:pt x="52" y="162"/>
                          </a:cubicBezTo>
                          <a:cubicBezTo>
                            <a:pt x="42" y="215"/>
                            <a:pt x="31" y="294"/>
                            <a:pt x="25" y="351"/>
                          </a:cubicBezTo>
                          <a:cubicBezTo>
                            <a:pt x="19" y="408"/>
                            <a:pt x="19" y="447"/>
                            <a:pt x="16" y="504"/>
                          </a:cubicBezTo>
                          <a:cubicBezTo>
                            <a:pt x="13" y="561"/>
                            <a:pt x="0" y="642"/>
                            <a:pt x="7" y="693"/>
                          </a:cubicBezTo>
                          <a:cubicBezTo>
                            <a:pt x="14" y="744"/>
                            <a:pt x="25" y="794"/>
                            <a:pt x="61" y="813"/>
                          </a:cubicBezTo>
                          <a:cubicBezTo>
                            <a:pt x="97" y="832"/>
                            <a:pt x="181" y="817"/>
                            <a:pt x="226" y="807"/>
                          </a:cubicBezTo>
                          <a:cubicBezTo>
                            <a:pt x="271" y="797"/>
                            <a:pt x="321" y="779"/>
                            <a:pt x="334" y="753"/>
                          </a:cubicBezTo>
                          <a:cubicBezTo>
                            <a:pt x="347" y="727"/>
                            <a:pt x="308" y="705"/>
                            <a:pt x="301" y="651"/>
                          </a:cubicBezTo>
                          <a:cubicBezTo>
                            <a:pt x="294" y="597"/>
                            <a:pt x="292" y="494"/>
                            <a:pt x="289" y="429"/>
                          </a:cubicBezTo>
                          <a:cubicBezTo>
                            <a:pt x="286" y="364"/>
                            <a:pt x="283" y="309"/>
                            <a:pt x="283" y="258"/>
                          </a:cubicBezTo>
                          <a:cubicBezTo>
                            <a:pt x="283" y="207"/>
                            <a:pt x="287" y="160"/>
                            <a:pt x="286" y="120"/>
                          </a:cubicBezTo>
                          <a:cubicBezTo>
                            <a:pt x="285" y="80"/>
                            <a:pt x="297" y="36"/>
                            <a:pt x="277" y="18"/>
                          </a:cubicBezTo>
                          <a:cubicBezTo>
                            <a:pt x="257" y="0"/>
                            <a:pt x="196" y="9"/>
                            <a:pt x="166" y="9"/>
                          </a:cubicBezTo>
                          <a:cubicBezTo>
                            <a:pt x="136" y="9"/>
                            <a:pt x="107" y="5"/>
                            <a:pt x="88" y="30"/>
                          </a:cubicBezTo>
                          <a:close/>
                        </a:path>
                      </a:pathLst>
                    </a:custGeom>
                    <a:gradFill rotWithShape="0">
                      <a:gsLst>
                        <a:gs pos="0">
                          <a:srgbClr val="d7ae19"/>
                        </a:gs>
                        <a:gs pos="100000">
                          <a:srgbClr val="ae8000"/>
                        </a:gs>
                      </a:gsLst>
                      <a:lin ang="5400000"/>
                    </a:gradFill>
                    <a:ln w="9360">
                      <a:solidFill>
                        <a:srgbClr val="d7ae1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rot="16989000">
                      <a:off x="3101040" y="4311360"/>
                      <a:ext cx="320760" cy="225000"/>
                    </a:xfrm>
                    <a:custGeom>
                      <a:avLst/>
                      <a:gdLst/>
                      <a:ahLst/>
                      <a:rect l="l" t="t" r="r" b="b"/>
                      <a:pathLst>
                        <a:path w="805" h="566">
                          <a:moveTo>
                            <a:pt x="382" y="0"/>
                          </a:moveTo>
                          <a:cubicBezTo>
                            <a:pt x="367" y="3"/>
                            <a:pt x="332" y="10"/>
                            <a:pt x="301" y="21"/>
                          </a:cubicBezTo>
                          <a:cubicBezTo>
                            <a:pt x="270" y="32"/>
                            <a:pt x="235" y="35"/>
                            <a:pt x="199" y="66"/>
                          </a:cubicBezTo>
                          <a:cubicBezTo>
                            <a:pt x="163" y="97"/>
                            <a:pt x="109" y="167"/>
                            <a:pt x="85" y="207"/>
                          </a:cubicBezTo>
                          <a:cubicBezTo>
                            <a:pt x="61" y="247"/>
                            <a:pt x="68" y="282"/>
                            <a:pt x="55" y="309"/>
                          </a:cubicBezTo>
                          <a:cubicBezTo>
                            <a:pt x="42" y="336"/>
                            <a:pt x="12" y="345"/>
                            <a:pt x="6" y="367"/>
                          </a:cubicBezTo>
                          <a:cubicBezTo>
                            <a:pt x="0" y="389"/>
                            <a:pt x="1" y="429"/>
                            <a:pt x="16" y="444"/>
                          </a:cubicBezTo>
                          <a:cubicBezTo>
                            <a:pt x="31" y="459"/>
                            <a:pt x="75" y="463"/>
                            <a:pt x="94" y="459"/>
                          </a:cubicBezTo>
                          <a:cubicBezTo>
                            <a:pt x="113" y="455"/>
                            <a:pt x="115" y="416"/>
                            <a:pt x="130" y="419"/>
                          </a:cubicBezTo>
                          <a:cubicBezTo>
                            <a:pt x="145" y="422"/>
                            <a:pt x="150" y="458"/>
                            <a:pt x="186" y="479"/>
                          </a:cubicBezTo>
                          <a:cubicBezTo>
                            <a:pt x="222" y="500"/>
                            <a:pt x="289" y="535"/>
                            <a:pt x="349" y="543"/>
                          </a:cubicBezTo>
                          <a:cubicBezTo>
                            <a:pt x="409" y="551"/>
                            <a:pt x="493" y="534"/>
                            <a:pt x="544" y="525"/>
                          </a:cubicBezTo>
                          <a:cubicBezTo>
                            <a:pt x="595" y="516"/>
                            <a:pt x="631" y="482"/>
                            <a:pt x="654" y="487"/>
                          </a:cubicBezTo>
                          <a:cubicBezTo>
                            <a:pt x="677" y="492"/>
                            <a:pt x="662" y="544"/>
                            <a:pt x="682" y="555"/>
                          </a:cubicBezTo>
                          <a:cubicBezTo>
                            <a:pt x="702" y="566"/>
                            <a:pt x="755" y="565"/>
                            <a:pt x="775" y="552"/>
                          </a:cubicBezTo>
                          <a:cubicBezTo>
                            <a:pt x="795" y="539"/>
                            <a:pt x="805" y="510"/>
                            <a:pt x="802" y="477"/>
                          </a:cubicBezTo>
                          <a:cubicBezTo>
                            <a:pt x="799" y="444"/>
                            <a:pt x="773" y="404"/>
                            <a:pt x="758" y="351"/>
                          </a:cubicBezTo>
                          <a:cubicBezTo>
                            <a:pt x="743" y="298"/>
                            <a:pt x="733" y="206"/>
                            <a:pt x="710" y="159"/>
                          </a:cubicBezTo>
                          <a:cubicBezTo>
                            <a:pt x="687" y="112"/>
                            <a:pt x="662" y="92"/>
                            <a:pt x="622" y="66"/>
                          </a:cubicBezTo>
                          <a:cubicBezTo>
                            <a:pt x="582" y="40"/>
                            <a:pt x="501" y="16"/>
                            <a:pt x="469" y="3"/>
                          </a:cubicBezTo>
                        </a:path>
                      </a:pathLst>
                    </a:custGeom>
                    <a:solidFill>
                      <a:srgbClr val="ae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2" name=""/>
                <p:cNvGrpSpPr/>
                <p:nvPr/>
              </p:nvGrpSpPr>
              <p:grpSpPr>
                <a:xfrm>
                  <a:off x="3049920" y="4752720"/>
                  <a:ext cx="452160" cy="545760"/>
                  <a:chOff x="3049920" y="4752720"/>
                  <a:chExt cx="452160" cy="545760"/>
                </a:xfrm>
              </p:grpSpPr>
              <p:sp>
                <p:nvSpPr>
                  <p:cNvPr id="203" name=""/>
                  <p:cNvSpPr/>
                  <p:nvPr/>
                </p:nvSpPr>
                <p:spPr>
                  <a:xfrm rot="20153400">
                    <a:off x="3052800" y="5100480"/>
                    <a:ext cx="274680" cy="7308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04" name=""/>
                  <p:cNvSpPr/>
                  <p:nvPr/>
                </p:nvSpPr>
                <p:spPr>
                  <a:xfrm rot="17731800">
                    <a:off x="3142800" y="512244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5" name=""/>
                  <p:cNvSpPr/>
                  <p:nvPr/>
                </p:nvSpPr>
                <p:spPr>
                  <a:xfrm rot="17731800">
                    <a:off x="3270240" y="485604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06" name=""/>
                  <p:cNvSpPr/>
                  <p:nvPr/>
                </p:nvSpPr>
                <p:spPr>
                  <a:xfrm rot="16725000">
                    <a:off x="3307320" y="5052960"/>
                    <a:ext cx="274680" cy="7308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07" name=""/>
                  <p:cNvSpPr/>
                  <p:nvPr/>
                </p:nvSpPr>
                <p:spPr>
                  <a:xfrm rot="18478200">
                    <a:off x="3131640" y="4858200"/>
                    <a:ext cx="274680" cy="72720"/>
                  </a:xfrm>
                  <a:prstGeom prst="roundRect">
                    <a:avLst>
                      <a:gd name="adj" fmla="val 16667"/>
                    </a:avLst>
                  </a:prstGeom>
                  <a:solidFill>
                    <a:srgbClr val="996633"/>
                  </a:solidFill>
                  <a:ln w="9360">
                    <a:solidFill>
                      <a:srgbClr val="6633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208" name=""/>
              <p:cNvGrpSpPr/>
              <p:nvPr/>
            </p:nvGrpSpPr>
            <p:grpSpPr>
              <a:xfrm>
                <a:off x="3508200" y="2853000"/>
                <a:ext cx="4925520" cy="3642840"/>
                <a:chOff x="3508200" y="2853000"/>
                <a:chExt cx="4925520" cy="3642840"/>
              </a:xfrm>
            </p:grpSpPr>
            <p:grpSp>
              <p:nvGrpSpPr>
                <p:cNvPr id="209" name=""/>
                <p:cNvGrpSpPr/>
                <p:nvPr/>
              </p:nvGrpSpPr>
              <p:grpSpPr>
                <a:xfrm>
                  <a:off x="4268520" y="4457520"/>
                  <a:ext cx="3405240" cy="955440"/>
                  <a:chOff x="4268520" y="4457520"/>
                  <a:chExt cx="3405240" cy="955440"/>
                </a:xfrm>
              </p:grpSpPr>
              <p:grpSp>
                <p:nvGrpSpPr>
                  <p:cNvPr id="210" name=""/>
                  <p:cNvGrpSpPr/>
                  <p:nvPr/>
                </p:nvGrpSpPr>
                <p:grpSpPr>
                  <a:xfrm>
                    <a:off x="4268520" y="4457520"/>
                    <a:ext cx="1063440" cy="928440"/>
                    <a:chOff x="4268520" y="4457520"/>
                    <a:chExt cx="1063440" cy="928440"/>
                  </a:xfrm>
                </p:grpSpPr>
                <p:grpSp>
                  <p:nvGrpSpPr>
                    <p:cNvPr id="211" name=""/>
                    <p:cNvGrpSpPr/>
                    <p:nvPr/>
                  </p:nvGrpSpPr>
                  <p:grpSpPr>
                    <a:xfrm>
                      <a:off x="4268520" y="4457520"/>
                      <a:ext cx="1063440" cy="928440"/>
                      <a:chOff x="4268520" y="4457520"/>
                      <a:chExt cx="1063440" cy="928440"/>
                    </a:xfrm>
                  </p:grpSpPr>
                  <p:sp>
                    <p:nvSpPr>
                      <p:cNvPr id="212" name=""/>
                      <p:cNvSpPr/>
                      <p:nvPr/>
                    </p:nvSpPr>
                    <p:spPr>
                      <a:xfrm>
                        <a:off x="4268520" y="4457520"/>
                        <a:ext cx="739800" cy="895680"/>
                      </a:xfrm>
                      <a:custGeom>
                        <a:avLst/>
                        <a:gdLst/>
                        <a:ahLst/>
                        <a:rect l="l" t="t" r="r" b="b"/>
                        <a:pathLst>
                          <a:path w="691" h="838">
                            <a:moveTo>
                              <a:pt x="318" y="177"/>
                            </a:moveTo>
                            <a:cubicBezTo>
                              <a:pt x="324" y="168"/>
                              <a:pt x="397" y="115"/>
                              <a:pt x="408" y="89"/>
                            </a:cubicBezTo>
                            <a:cubicBezTo>
                              <a:pt x="419" y="63"/>
                              <a:pt x="395" y="34"/>
                              <a:pt x="382" y="19"/>
                            </a:cubicBezTo>
                            <a:cubicBezTo>
                              <a:pt x="369" y="4"/>
                              <a:pt x="347" y="2"/>
                              <a:pt x="330" y="1"/>
                            </a:cubicBezTo>
                            <a:cubicBezTo>
                              <a:pt x="313" y="0"/>
                              <a:pt x="297" y="5"/>
                              <a:pt x="282" y="15"/>
                            </a:cubicBezTo>
                            <a:cubicBezTo>
                              <a:pt x="267" y="25"/>
                              <a:pt x="250" y="39"/>
                              <a:pt x="242" y="59"/>
                            </a:cubicBezTo>
                            <a:cubicBezTo>
                              <a:pt x="234" y="79"/>
                              <a:pt x="234" y="117"/>
                              <a:pt x="232" y="137"/>
                            </a:cubicBezTo>
                            <a:cubicBezTo>
                              <a:pt x="230" y="157"/>
                              <a:pt x="238" y="169"/>
                              <a:pt x="232" y="180"/>
                            </a:cubicBezTo>
                            <a:cubicBezTo>
                              <a:pt x="226" y="191"/>
                              <a:pt x="216" y="198"/>
                              <a:pt x="194" y="204"/>
                            </a:cubicBezTo>
                            <a:cubicBezTo>
                              <a:pt x="172" y="210"/>
                              <a:pt x="129" y="206"/>
                              <a:pt x="98" y="214"/>
                            </a:cubicBezTo>
                            <a:cubicBezTo>
                              <a:pt x="67" y="222"/>
                              <a:pt x="12" y="241"/>
                              <a:pt x="6" y="252"/>
                            </a:cubicBezTo>
                            <a:cubicBezTo>
                              <a:pt x="0" y="263"/>
                              <a:pt x="45" y="270"/>
                              <a:pt x="64" y="283"/>
                            </a:cubicBezTo>
                            <a:cubicBezTo>
                              <a:pt x="83" y="296"/>
                              <a:pt x="101" y="314"/>
                              <a:pt x="120" y="333"/>
                            </a:cubicBezTo>
                            <a:cubicBezTo>
                              <a:pt x="139" y="352"/>
                              <a:pt x="167" y="379"/>
                              <a:pt x="180" y="399"/>
                            </a:cubicBezTo>
                            <a:cubicBezTo>
                              <a:pt x="193" y="419"/>
                              <a:pt x="203" y="441"/>
                              <a:pt x="196" y="453"/>
                            </a:cubicBezTo>
                            <a:cubicBezTo>
                              <a:pt x="189" y="465"/>
                              <a:pt x="154" y="456"/>
                              <a:pt x="138" y="469"/>
                            </a:cubicBezTo>
                            <a:cubicBezTo>
                              <a:pt x="122" y="482"/>
                              <a:pt x="96" y="526"/>
                              <a:pt x="102" y="531"/>
                            </a:cubicBezTo>
                            <a:cubicBezTo>
                              <a:pt x="108" y="536"/>
                              <a:pt x="155" y="504"/>
                              <a:pt x="174" y="502"/>
                            </a:cubicBezTo>
                            <a:cubicBezTo>
                              <a:pt x="193" y="500"/>
                              <a:pt x="210" y="508"/>
                              <a:pt x="218" y="521"/>
                            </a:cubicBezTo>
                            <a:cubicBezTo>
                              <a:pt x="226" y="534"/>
                              <a:pt x="220" y="559"/>
                              <a:pt x="224" y="581"/>
                            </a:cubicBezTo>
                            <a:cubicBezTo>
                              <a:pt x="228" y="603"/>
                              <a:pt x="230" y="629"/>
                              <a:pt x="242" y="655"/>
                            </a:cubicBezTo>
                            <a:cubicBezTo>
                              <a:pt x="254" y="681"/>
                              <a:pt x="281" y="717"/>
                              <a:pt x="298" y="735"/>
                            </a:cubicBezTo>
                            <a:cubicBezTo>
                              <a:pt x="315" y="753"/>
                              <a:pt x="336" y="757"/>
                              <a:pt x="347" y="766"/>
                            </a:cubicBezTo>
                            <a:cubicBezTo>
                              <a:pt x="358" y="775"/>
                              <a:pt x="377" y="789"/>
                              <a:pt x="362" y="790"/>
                            </a:cubicBezTo>
                            <a:cubicBezTo>
                              <a:pt x="347" y="791"/>
                              <a:pt x="280" y="777"/>
                              <a:pt x="256" y="775"/>
                            </a:cubicBezTo>
                            <a:cubicBezTo>
                              <a:pt x="232" y="773"/>
                              <a:pt x="230" y="767"/>
                              <a:pt x="218" y="775"/>
                            </a:cubicBezTo>
                            <a:cubicBezTo>
                              <a:pt x="206" y="783"/>
                              <a:pt x="180" y="813"/>
                              <a:pt x="184" y="823"/>
                            </a:cubicBezTo>
                            <a:cubicBezTo>
                              <a:pt x="188" y="833"/>
                              <a:pt x="218" y="836"/>
                              <a:pt x="244" y="837"/>
                            </a:cubicBezTo>
                            <a:cubicBezTo>
                              <a:pt x="270" y="838"/>
                              <a:pt x="318" y="829"/>
                              <a:pt x="342" y="828"/>
                            </a:cubicBezTo>
                            <a:cubicBezTo>
                              <a:pt x="366" y="827"/>
                              <a:pt x="369" y="829"/>
                              <a:pt x="388" y="829"/>
                            </a:cubicBezTo>
                            <a:cubicBezTo>
                              <a:pt x="407" y="829"/>
                              <a:pt x="435" y="832"/>
                              <a:pt x="456" y="831"/>
                            </a:cubicBezTo>
                            <a:cubicBezTo>
                              <a:pt x="477" y="830"/>
                              <a:pt x="493" y="828"/>
                              <a:pt x="512" y="823"/>
                            </a:cubicBezTo>
                            <a:cubicBezTo>
                              <a:pt x="531" y="818"/>
                              <a:pt x="546" y="814"/>
                              <a:pt x="568" y="799"/>
                            </a:cubicBezTo>
                            <a:cubicBezTo>
                              <a:pt x="590" y="784"/>
                              <a:pt x="625" y="762"/>
                              <a:pt x="645" y="732"/>
                            </a:cubicBezTo>
                            <a:cubicBezTo>
                              <a:pt x="665" y="702"/>
                              <a:pt x="691" y="661"/>
                              <a:pt x="688" y="617"/>
                            </a:cubicBezTo>
                            <a:cubicBezTo>
                              <a:pt x="685" y="573"/>
                              <a:pt x="646" y="505"/>
                              <a:pt x="628" y="467"/>
                            </a:cubicBezTo>
                            <a:cubicBezTo>
                              <a:pt x="610" y="429"/>
                              <a:pt x="598" y="411"/>
                              <a:pt x="578" y="389"/>
                            </a:cubicBezTo>
                            <a:cubicBezTo>
                              <a:pt x="558" y="367"/>
                              <a:pt x="531" y="354"/>
                              <a:pt x="506" y="335"/>
                            </a:cubicBezTo>
                            <a:cubicBezTo>
                              <a:pt x="481" y="316"/>
                              <a:pt x="455" y="290"/>
                              <a:pt x="428" y="273"/>
                            </a:cubicBezTo>
                            <a:cubicBezTo>
                              <a:pt x="401" y="256"/>
                              <a:pt x="349" y="237"/>
                              <a:pt x="346" y="235"/>
                            </a:cubicBezTo>
                            <a:cubicBezTo>
                              <a:pt x="343" y="233"/>
                              <a:pt x="386" y="256"/>
                              <a:pt x="410" y="259"/>
                            </a:cubicBezTo>
                            <a:cubicBezTo>
                              <a:pt x="434" y="262"/>
                              <a:pt x="467" y="256"/>
                              <a:pt x="488" y="251"/>
                            </a:cubicBezTo>
                            <a:cubicBezTo>
                              <a:pt x="509" y="246"/>
                              <a:pt x="522" y="238"/>
                              <a:pt x="534" y="227"/>
                            </a:cubicBezTo>
                            <a:cubicBezTo>
                              <a:pt x="546" y="216"/>
                              <a:pt x="557" y="200"/>
                              <a:pt x="562" y="187"/>
                            </a:cubicBezTo>
                            <a:cubicBezTo>
                              <a:pt x="567" y="174"/>
                              <a:pt x="564" y="162"/>
                              <a:pt x="562" y="149"/>
                            </a:cubicBezTo>
                            <a:cubicBezTo>
                              <a:pt x="560" y="136"/>
                              <a:pt x="557" y="123"/>
                              <a:pt x="550" y="111"/>
                            </a:cubicBezTo>
                            <a:cubicBezTo>
                              <a:pt x="543" y="99"/>
                              <a:pt x="533" y="83"/>
                              <a:pt x="518" y="75"/>
                            </a:cubicBezTo>
                            <a:cubicBezTo>
                              <a:pt x="503" y="67"/>
                              <a:pt x="479" y="59"/>
                              <a:pt x="462" y="61"/>
                            </a:cubicBezTo>
                            <a:cubicBezTo>
                              <a:pt x="445" y="63"/>
                              <a:pt x="429" y="75"/>
                              <a:pt x="414" y="89"/>
                            </a:cubicBezTo>
                            <a:cubicBezTo>
                              <a:pt x="399" y="103"/>
                              <a:pt x="387" y="127"/>
                              <a:pt x="371" y="142"/>
                            </a:cubicBezTo>
                            <a:cubicBezTo>
                              <a:pt x="355" y="157"/>
                              <a:pt x="322" y="182"/>
                              <a:pt x="318" y="177"/>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743000" y="4603680"/>
                        <a:ext cx="588960" cy="782280"/>
                      </a:xfrm>
                      <a:custGeom>
                        <a:avLst/>
                        <a:gdLst/>
                        <a:ahLst/>
                        <a:rect l="l" t="t" r="r" b="b"/>
                        <a:pathLst>
                          <a:path w="550" h="732">
                            <a:moveTo>
                              <a:pt x="82" y="684"/>
                            </a:moveTo>
                            <a:cubicBezTo>
                              <a:pt x="105" y="681"/>
                              <a:pt x="121" y="690"/>
                              <a:pt x="149" y="684"/>
                            </a:cubicBezTo>
                            <a:cubicBezTo>
                              <a:pt x="177" y="678"/>
                              <a:pt x="221" y="666"/>
                              <a:pt x="250" y="648"/>
                            </a:cubicBezTo>
                            <a:cubicBezTo>
                              <a:pt x="279" y="630"/>
                              <a:pt x="307" y="604"/>
                              <a:pt x="322" y="578"/>
                            </a:cubicBezTo>
                            <a:cubicBezTo>
                              <a:pt x="337" y="552"/>
                              <a:pt x="339" y="529"/>
                              <a:pt x="341" y="494"/>
                            </a:cubicBezTo>
                            <a:cubicBezTo>
                              <a:pt x="343" y="459"/>
                              <a:pt x="335" y="404"/>
                              <a:pt x="331" y="370"/>
                            </a:cubicBezTo>
                            <a:cubicBezTo>
                              <a:pt x="327" y="336"/>
                              <a:pt x="324" y="320"/>
                              <a:pt x="319" y="290"/>
                            </a:cubicBezTo>
                            <a:cubicBezTo>
                              <a:pt x="314" y="260"/>
                              <a:pt x="297" y="225"/>
                              <a:pt x="303" y="190"/>
                            </a:cubicBezTo>
                            <a:cubicBezTo>
                              <a:pt x="309" y="155"/>
                              <a:pt x="335" y="110"/>
                              <a:pt x="357" y="82"/>
                            </a:cubicBezTo>
                            <a:cubicBezTo>
                              <a:pt x="379" y="54"/>
                              <a:pt x="405" y="35"/>
                              <a:pt x="437" y="22"/>
                            </a:cubicBezTo>
                            <a:cubicBezTo>
                              <a:pt x="469" y="9"/>
                              <a:pt x="550" y="0"/>
                              <a:pt x="550" y="2"/>
                            </a:cubicBezTo>
                            <a:cubicBezTo>
                              <a:pt x="550" y="4"/>
                              <a:pt x="469" y="14"/>
                              <a:pt x="437" y="34"/>
                            </a:cubicBezTo>
                            <a:cubicBezTo>
                              <a:pt x="405" y="54"/>
                              <a:pt x="372" y="90"/>
                              <a:pt x="357" y="122"/>
                            </a:cubicBezTo>
                            <a:cubicBezTo>
                              <a:pt x="342" y="154"/>
                              <a:pt x="343" y="190"/>
                              <a:pt x="346" y="228"/>
                            </a:cubicBezTo>
                            <a:cubicBezTo>
                              <a:pt x="349" y="266"/>
                              <a:pt x="371" y="306"/>
                              <a:pt x="377" y="350"/>
                            </a:cubicBezTo>
                            <a:cubicBezTo>
                              <a:pt x="383" y="394"/>
                              <a:pt x="392" y="443"/>
                              <a:pt x="385" y="490"/>
                            </a:cubicBezTo>
                            <a:cubicBezTo>
                              <a:pt x="378" y="537"/>
                              <a:pt x="357" y="594"/>
                              <a:pt x="334" y="631"/>
                            </a:cubicBezTo>
                            <a:cubicBezTo>
                              <a:pt x="311" y="668"/>
                              <a:pt x="281" y="693"/>
                              <a:pt x="247" y="710"/>
                            </a:cubicBezTo>
                            <a:cubicBezTo>
                              <a:pt x="213" y="727"/>
                              <a:pt x="164" y="732"/>
                              <a:pt x="129" y="732"/>
                            </a:cubicBezTo>
                            <a:cubicBezTo>
                              <a:pt x="94" y="732"/>
                              <a:pt x="54" y="718"/>
                              <a:pt x="34" y="713"/>
                            </a:cubicBezTo>
                            <a:cubicBezTo>
                              <a:pt x="14" y="708"/>
                              <a:pt x="0" y="706"/>
                              <a:pt x="10" y="701"/>
                            </a:cubicBezTo>
                            <a:cubicBezTo>
                              <a:pt x="20" y="696"/>
                              <a:pt x="59" y="687"/>
                              <a:pt x="82" y="684"/>
                            </a:cubicBezTo>
                            <a:close/>
                          </a:path>
                        </a:pathLst>
                      </a:custGeom>
                      <a:solidFill>
                        <a:srgbClr val="808080"/>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4309200" y="4639680"/>
                        <a:ext cx="8280" cy="63720"/>
                      </a:xfrm>
                      <a:prstGeom prst="line">
                        <a:avLst/>
                      </a:prstGeom>
                      <a:ln w="1260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 name=""/>
                      <p:cNvSpPr/>
                      <p:nvPr/>
                    </p:nvSpPr>
                    <p:spPr>
                      <a:xfrm flipV="1">
                        <a:off x="4313160" y="4591080"/>
                        <a:ext cx="79200" cy="1173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H="1">
                        <a:off x="4302720" y="4749120"/>
                        <a:ext cx="4320" cy="64080"/>
                      </a:xfrm>
                      <a:prstGeom prst="line">
                        <a:avLst/>
                      </a:prstGeom>
                      <a:ln w="1260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17" name=""/>
                      <p:cNvSpPr/>
                      <p:nvPr/>
                    </p:nvSpPr>
                    <p:spPr>
                      <a:xfrm>
                        <a:off x="4317480" y="4751280"/>
                        <a:ext cx="55440" cy="939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8" name=""/>
                    <p:cNvSpPr/>
                    <p:nvPr/>
                  </p:nvSpPr>
                  <p:spPr>
                    <a:xfrm>
                      <a:off x="4465440" y="4710600"/>
                      <a:ext cx="42840" cy="47160"/>
                    </a:xfrm>
                    <a:prstGeom prst="ellipse">
                      <a:avLst/>
                    </a:prstGeom>
                    <a:solidFill>
                      <a:srgbClr val="5f5f5f"/>
                    </a:solidFill>
                    <a:ln w="9360">
                      <a:solidFill>
                        <a:srgbClr val="5f5f5f"/>
                      </a:solidFill>
                      <a:miter/>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219" name=""/>
                  <p:cNvGrpSpPr/>
                  <p:nvPr/>
                </p:nvGrpSpPr>
                <p:grpSpPr>
                  <a:xfrm>
                    <a:off x="5434920" y="4506480"/>
                    <a:ext cx="1041480" cy="906480"/>
                    <a:chOff x="5434920" y="4506480"/>
                    <a:chExt cx="1041480" cy="906480"/>
                  </a:xfrm>
                </p:grpSpPr>
                <p:sp>
                  <p:nvSpPr>
                    <p:cNvPr id="220" name=""/>
                    <p:cNvSpPr/>
                    <p:nvPr/>
                  </p:nvSpPr>
                  <p:spPr>
                    <a:xfrm>
                      <a:off x="5583960" y="4767120"/>
                      <a:ext cx="374760" cy="26172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rot="861600">
                      <a:off x="5779080" y="4837320"/>
                      <a:ext cx="588240" cy="4392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rot="20509200">
                      <a:off x="6120000" y="4953960"/>
                      <a:ext cx="277920" cy="3492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rot="20932800">
                      <a:off x="5975640" y="5276520"/>
                      <a:ext cx="293040" cy="109080"/>
                    </a:xfrm>
                    <a:prstGeom prst="ellipse">
                      <a:avLst/>
                    </a:prstGeom>
                    <a:solidFill>
                      <a:srgbClr val="996633"/>
                    </a:solidFill>
                    <a:ln w="9360">
                      <a:solidFill>
                        <a:srgbClr val="996633"/>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4" name=""/>
                    <p:cNvSpPr/>
                    <p:nvPr/>
                  </p:nvSpPr>
                  <p:spPr>
                    <a:xfrm rot="1784400">
                      <a:off x="5876280" y="5166360"/>
                      <a:ext cx="98640" cy="2196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20493600">
                      <a:off x="5680080" y="4618080"/>
                      <a:ext cx="98640" cy="2196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rot="19878600">
                      <a:off x="5442840" y="4652280"/>
                      <a:ext cx="293040" cy="109080"/>
                    </a:xfrm>
                    <a:prstGeom prst="ellipse">
                      <a:avLst/>
                    </a:prstGeom>
                    <a:solidFill>
                      <a:srgbClr val="996633"/>
                    </a:solidFill>
                    <a:ln w="9360">
                      <a:solidFill>
                        <a:srgbClr val="996633"/>
                      </a:solidFill>
                      <a:miter/>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227" name=""/>
                    <p:cNvSpPr/>
                    <p:nvPr/>
                  </p:nvSpPr>
                  <p:spPr>
                    <a:xfrm rot="180600">
                      <a:off x="5783400" y="4628880"/>
                      <a:ext cx="98640" cy="2196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rot="19878600">
                      <a:off x="5772960" y="4570200"/>
                      <a:ext cx="294120" cy="109440"/>
                    </a:xfrm>
                    <a:prstGeom prst="ellipse">
                      <a:avLst/>
                    </a:prstGeom>
                    <a:solidFill>
                      <a:srgbClr val="996633"/>
                    </a:solidFill>
                    <a:ln w="9360">
                      <a:solidFill>
                        <a:srgbClr val="996633"/>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9" name=""/>
                    <p:cNvSpPr/>
                    <p:nvPr/>
                  </p:nvSpPr>
                  <p:spPr>
                    <a:xfrm>
                      <a:off x="6280200" y="4938840"/>
                      <a:ext cx="196200" cy="219600"/>
                    </a:xfrm>
                    <a:prstGeom prst="ellipse">
                      <a:avLst/>
                    </a:prstGeom>
                    <a:solidFill>
                      <a:srgbClr val="996633"/>
                    </a:solidFill>
                    <a:ln w="936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30" name=""/>
                    <p:cNvGrpSpPr/>
                    <p:nvPr/>
                  </p:nvGrpSpPr>
                  <p:grpSpPr>
                    <a:xfrm>
                      <a:off x="5696280" y="4834440"/>
                      <a:ext cx="63360" cy="64440"/>
                      <a:chOff x="5696280" y="4834440"/>
                      <a:chExt cx="63360" cy="64440"/>
                    </a:xfrm>
                  </p:grpSpPr>
                  <p:sp>
                    <p:nvSpPr>
                      <p:cNvPr id="231" name=""/>
                      <p:cNvSpPr/>
                      <p:nvPr/>
                    </p:nvSpPr>
                    <p:spPr>
                      <a:xfrm>
                        <a:off x="5696280" y="4834440"/>
                        <a:ext cx="63360" cy="64440"/>
                      </a:xfrm>
                      <a:prstGeom prst="ellipse">
                        <a:avLst/>
                      </a:prstGeom>
                      <a:solidFill>
                        <a:srgbClr val="000000"/>
                      </a:solidFill>
                      <a:ln w="9360">
                        <a:solidFill>
                          <a:srgbClr val="996633"/>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232" name=""/>
                      <p:cNvSpPr/>
                      <p:nvPr/>
                    </p:nvSpPr>
                    <p:spPr>
                      <a:xfrm>
                        <a:off x="5707080" y="4845600"/>
                        <a:ext cx="39960" cy="40320"/>
                      </a:xfrm>
                      <a:prstGeom prst="ellipse">
                        <a:avLst/>
                      </a:prstGeom>
                      <a:solidFill>
                        <a:srgbClr val="000000"/>
                      </a:solidFill>
                      <a:ln w="9360">
                        <a:solidFill>
                          <a:srgbClr val="996633"/>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grpSp>
              <p:sp>
                <p:nvSpPr>
                  <p:cNvPr id="233" name=""/>
                  <p:cNvSpPr/>
                  <p:nvPr/>
                </p:nvSpPr>
                <p:spPr>
                  <a:xfrm>
                    <a:off x="6765480" y="4483080"/>
                    <a:ext cx="908280" cy="903240"/>
                  </a:xfrm>
                  <a:custGeom>
                    <a:avLst/>
                    <a:gdLst/>
                    <a:ahLst/>
                    <a:rect l="l" t="t" r="r" b="b"/>
                    <a:pathLst>
                      <a:path w="572" h="569">
                        <a:moveTo>
                          <a:pt x="229" y="106"/>
                        </a:moveTo>
                        <a:cubicBezTo>
                          <a:pt x="224" y="95"/>
                          <a:pt x="219" y="85"/>
                          <a:pt x="214" y="79"/>
                        </a:cubicBezTo>
                        <a:cubicBezTo>
                          <a:pt x="209" y="73"/>
                          <a:pt x="198" y="72"/>
                          <a:pt x="196" y="67"/>
                        </a:cubicBezTo>
                        <a:cubicBezTo>
                          <a:pt x="194" y="62"/>
                          <a:pt x="202" y="50"/>
                          <a:pt x="202" y="46"/>
                        </a:cubicBezTo>
                        <a:cubicBezTo>
                          <a:pt x="202" y="42"/>
                          <a:pt x="200" y="41"/>
                          <a:pt x="196" y="40"/>
                        </a:cubicBezTo>
                        <a:cubicBezTo>
                          <a:pt x="192" y="39"/>
                          <a:pt x="182" y="34"/>
                          <a:pt x="178" y="37"/>
                        </a:cubicBezTo>
                        <a:cubicBezTo>
                          <a:pt x="174" y="40"/>
                          <a:pt x="180" y="55"/>
                          <a:pt x="169" y="58"/>
                        </a:cubicBezTo>
                        <a:cubicBezTo>
                          <a:pt x="158" y="61"/>
                          <a:pt x="130" y="48"/>
                          <a:pt x="109" y="55"/>
                        </a:cubicBezTo>
                        <a:cubicBezTo>
                          <a:pt x="88" y="62"/>
                          <a:pt x="55" y="88"/>
                          <a:pt x="40" y="100"/>
                        </a:cubicBezTo>
                        <a:cubicBezTo>
                          <a:pt x="25" y="112"/>
                          <a:pt x="20" y="118"/>
                          <a:pt x="19" y="124"/>
                        </a:cubicBezTo>
                        <a:cubicBezTo>
                          <a:pt x="18" y="130"/>
                          <a:pt x="27" y="126"/>
                          <a:pt x="34" y="135"/>
                        </a:cubicBezTo>
                        <a:cubicBezTo>
                          <a:pt x="41" y="144"/>
                          <a:pt x="53" y="166"/>
                          <a:pt x="63" y="177"/>
                        </a:cubicBezTo>
                        <a:cubicBezTo>
                          <a:pt x="73" y="188"/>
                          <a:pt x="88" y="195"/>
                          <a:pt x="97" y="199"/>
                        </a:cubicBezTo>
                        <a:cubicBezTo>
                          <a:pt x="106" y="203"/>
                          <a:pt x="116" y="194"/>
                          <a:pt x="118" y="202"/>
                        </a:cubicBezTo>
                        <a:cubicBezTo>
                          <a:pt x="120" y="210"/>
                          <a:pt x="115" y="233"/>
                          <a:pt x="109" y="247"/>
                        </a:cubicBezTo>
                        <a:cubicBezTo>
                          <a:pt x="103" y="261"/>
                          <a:pt x="92" y="289"/>
                          <a:pt x="81" y="288"/>
                        </a:cubicBezTo>
                        <a:cubicBezTo>
                          <a:pt x="70" y="287"/>
                          <a:pt x="51" y="251"/>
                          <a:pt x="42" y="241"/>
                        </a:cubicBezTo>
                        <a:cubicBezTo>
                          <a:pt x="33" y="231"/>
                          <a:pt x="31" y="228"/>
                          <a:pt x="24" y="229"/>
                        </a:cubicBezTo>
                        <a:cubicBezTo>
                          <a:pt x="17" y="230"/>
                          <a:pt x="0" y="239"/>
                          <a:pt x="1" y="250"/>
                        </a:cubicBezTo>
                        <a:cubicBezTo>
                          <a:pt x="2" y="261"/>
                          <a:pt x="21" y="282"/>
                          <a:pt x="30" y="294"/>
                        </a:cubicBezTo>
                        <a:cubicBezTo>
                          <a:pt x="39" y="306"/>
                          <a:pt x="48" y="309"/>
                          <a:pt x="54" y="319"/>
                        </a:cubicBezTo>
                        <a:cubicBezTo>
                          <a:pt x="60" y="329"/>
                          <a:pt x="59" y="346"/>
                          <a:pt x="69" y="354"/>
                        </a:cubicBezTo>
                        <a:cubicBezTo>
                          <a:pt x="79" y="362"/>
                          <a:pt x="104" y="368"/>
                          <a:pt x="115" y="370"/>
                        </a:cubicBezTo>
                        <a:cubicBezTo>
                          <a:pt x="126" y="372"/>
                          <a:pt x="138" y="358"/>
                          <a:pt x="136" y="367"/>
                        </a:cubicBezTo>
                        <a:cubicBezTo>
                          <a:pt x="134" y="376"/>
                          <a:pt x="109" y="408"/>
                          <a:pt x="105" y="424"/>
                        </a:cubicBezTo>
                        <a:cubicBezTo>
                          <a:pt x="101" y="440"/>
                          <a:pt x="106" y="447"/>
                          <a:pt x="112" y="463"/>
                        </a:cubicBezTo>
                        <a:cubicBezTo>
                          <a:pt x="118" y="479"/>
                          <a:pt x="141" y="510"/>
                          <a:pt x="139" y="523"/>
                        </a:cubicBezTo>
                        <a:cubicBezTo>
                          <a:pt x="137" y="536"/>
                          <a:pt x="109" y="534"/>
                          <a:pt x="100" y="541"/>
                        </a:cubicBezTo>
                        <a:cubicBezTo>
                          <a:pt x="91" y="548"/>
                          <a:pt x="80" y="561"/>
                          <a:pt x="85" y="565"/>
                        </a:cubicBezTo>
                        <a:cubicBezTo>
                          <a:pt x="90" y="569"/>
                          <a:pt x="116" y="569"/>
                          <a:pt x="133" y="568"/>
                        </a:cubicBezTo>
                        <a:cubicBezTo>
                          <a:pt x="150" y="567"/>
                          <a:pt x="172" y="558"/>
                          <a:pt x="189" y="558"/>
                        </a:cubicBezTo>
                        <a:cubicBezTo>
                          <a:pt x="206" y="558"/>
                          <a:pt x="221" y="567"/>
                          <a:pt x="235" y="568"/>
                        </a:cubicBezTo>
                        <a:cubicBezTo>
                          <a:pt x="249" y="569"/>
                          <a:pt x="258" y="566"/>
                          <a:pt x="274" y="562"/>
                        </a:cubicBezTo>
                        <a:cubicBezTo>
                          <a:pt x="290" y="558"/>
                          <a:pt x="314" y="546"/>
                          <a:pt x="334" y="544"/>
                        </a:cubicBezTo>
                        <a:cubicBezTo>
                          <a:pt x="354" y="542"/>
                          <a:pt x="374" y="550"/>
                          <a:pt x="393" y="547"/>
                        </a:cubicBezTo>
                        <a:cubicBezTo>
                          <a:pt x="412" y="544"/>
                          <a:pt x="435" y="536"/>
                          <a:pt x="451" y="523"/>
                        </a:cubicBezTo>
                        <a:cubicBezTo>
                          <a:pt x="467" y="510"/>
                          <a:pt x="481" y="479"/>
                          <a:pt x="487" y="466"/>
                        </a:cubicBezTo>
                        <a:cubicBezTo>
                          <a:pt x="493" y="453"/>
                          <a:pt x="489" y="455"/>
                          <a:pt x="490" y="445"/>
                        </a:cubicBezTo>
                        <a:cubicBezTo>
                          <a:pt x="491" y="435"/>
                          <a:pt x="495" y="414"/>
                          <a:pt x="495" y="405"/>
                        </a:cubicBezTo>
                        <a:cubicBezTo>
                          <a:pt x="495" y="396"/>
                          <a:pt x="490" y="399"/>
                          <a:pt x="490" y="388"/>
                        </a:cubicBezTo>
                        <a:cubicBezTo>
                          <a:pt x="490" y="377"/>
                          <a:pt x="494" y="348"/>
                          <a:pt x="492" y="340"/>
                        </a:cubicBezTo>
                        <a:cubicBezTo>
                          <a:pt x="490" y="332"/>
                          <a:pt x="483" y="346"/>
                          <a:pt x="481" y="340"/>
                        </a:cubicBezTo>
                        <a:cubicBezTo>
                          <a:pt x="479" y="334"/>
                          <a:pt x="481" y="309"/>
                          <a:pt x="478" y="304"/>
                        </a:cubicBezTo>
                        <a:cubicBezTo>
                          <a:pt x="475" y="299"/>
                          <a:pt x="462" y="303"/>
                          <a:pt x="460" y="307"/>
                        </a:cubicBezTo>
                        <a:cubicBezTo>
                          <a:pt x="458" y="311"/>
                          <a:pt x="469" y="335"/>
                          <a:pt x="466" y="331"/>
                        </a:cubicBezTo>
                        <a:cubicBezTo>
                          <a:pt x="463" y="327"/>
                          <a:pt x="447" y="293"/>
                          <a:pt x="442" y="283"/>
                        </a:cubicBezTo>
                        <a:cubicBezTo>
                          <a:pt x="437" y="273"/>
                          <a:pt x="439" y="274"/>
                          <a:pt x="438" y="271"/>
                        </a:cubicBezTo>
                        <a:cubicBezTo>
                          <a:pt x="437" y="268"/>
                          <a:pt x="438" y="265"/>
                          <a:pt x="435" y="262"/>
                        </a:cubicBezTo>
                        <a:cubicBezTo>
                          <a:pt x="432" y="259"/>
                          <a:pt x="413" y="254"/>
                          <a:pt x="418" y="253"/>
                        </a:cubicBezTo>
                        <a:cubicBezTo>
                          <a:pt x="423" y="252"/>
                          <a:pt x="444" y="261"/>
                          <a:pt x="463" y="256"/>
                        </a:cubicBezTo>
                        <a:cubicBezTo>
                          <a:pt x="482" y="251"/>
                          <a:pt x="518" y="243"/>
                          <a:pt x="535" y="225"/>
                        </a:cubicBezTo>
                        <a:cubicBezTo>
                          <a:pt x="552" y="207"/>
                          <a:pt x="564" y="167"/>
                          <a:pt x="568" y="148"/>
                        </a:cubicBezTo>
                        <a:cubicBezTo>
                          <a:pt x="572" y="129"/>
                          <a:pt x="562" y="117"/>
                          <a:pt x="558" y="112"/>
                        </a:cubicBezTo>
                        <a:cubicBezTo>
                          <a:pt x="554" y="107"/>
                          <a:pt x="542" y="121"/>
                          <a:pt x="541" y="118"/>
                        </a:cubicBezTo>
                        <a:cubicBezTo>
                          <a:pt x="540" y="115"/>
                          <a:pt x="552" y="105"/>
                          <a:pt x="550" y="94"/>
                        </a:cubicBezTo>
                        <a:cubicBezTo>
                          <a:pt x="548" y="83"/>
                          <a:pt x="536" y="62"/>
                          <a:pt x="526" y="49"/>
                        </a:cubicBezTo>
                        <a:cubicBezTo>
                          <a:pt x="516" y="36"/>
                          <a:pt x="494" y="18"/>
                          <a:pt x="487" y="16"/>
                        </a:cubicBezTo>
                        <a:cubicBezTo>
                          <a:pt x="480" y="14"/>
                          <a:pt x="491" y="38"/>
                          <a:pt x="487" y="37"/>
                        </a:cubicBezTo>
                        <a:cubicBezTo>
                          <a:pt x="483" y="36"/>
                          <a:pt x="476" y="16"/>
                          <a:pt x="460" y="10"/>
                        </a:cubicBezTo>
                        <a:cubicBezTo>
                          <a:pt x="444" y="4"/>
                          <a:pt x="404" y="0"/>
                          <a:pt x="391" y="0"/>
                        </a:cubicBezTo>
                        <a:cubicBezTo>
                          <a:pt x="378" y="0"/>
                          <a:pt x="388" y="12"/>
                          <a:pt x="382" y="13"/>
                        </a:cubicBezTo>
                        <a:cubicBezTo>
                          <a:pt x="376" y="14"/>
                          <a:pt x="370" y="0"/>
                          <a:pt x="357" y="3"/>
                        </a:cubicBezTo>
                        <a:cubicBezTo>
                          <a:pt x="344" y="6"/>
                          <a:pt x="311" y="20"/>
                          <a:pt x="301" y="31"/>
                        </a:cubicBezTo>
                        <a:cubicBezTo>
                          <a:pt x="291" y="42"/>
                          <a:pt x="300" y="66"/>
                          <a:pt x="298" y="70"/>
                        </a:cubicBezTo>
                        <a:cubicBezTo>
                          <a:pt x="296" y="74"/>
                          <a:pt x="300" y="51"/>
                          <a:pt x="292" y="54"/>
                        </a:cubicBezTo>
                        <a:cubicBezTo>
                          <a:pt x="284" y="57"/>
                          <a:pt x="260" y="74"/>
                          <a:pt x="252" y="85"/>
                        </a:cubicBezTo>
                        <a:cubicBezTo>
                          <a:pt x="244" y="96"/>
                          <a:pt x="246" y="115"/>
                          <a:pt x="241" y="118"/>
                        </a:cubicBezTo>
                        <a:cubicBezTo>
                          <a:pt x="236" y="121"/>
                          <a:pt x="231" y="106"/>
                          <a:pt x="223" y="105"/>
                        </a:cubicBezTo>
                        <a:cubicBezTo>
                          <a:pt x="215" y="104"/>
                          <a:pt x="199" y="108"/>
                          <a:pt x="193" y="109"/>
                        </a:cubicBezTo>
                      </a:path>
                    </a:pathLst>
                  </a:custGeom>
                  <a:solidFill>
                    <a:srgbClr val="9b3a0f"/>
                  </a:solidFill>
                  <a:ln w="9360">
                    <a:solidFill>
                      <a:srgbClr val="9b3a0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4681080" y="2853000"/>
                  <a:ext cx="2676240" cy="1297440"/>
                  <a:chOff x="4681080" y="2853000"/>
                  <a:chExt cx="2676240" cy="1297440"/>
                </a:xfrm>
              </p:grpSpPr>
              <p:grpSp>
                <p:nvGrpSpPr>
                  <p:cNvPr id="235" name=""/>
                  <p:cNvGrpSpPr/>
                  <p:nvPr/>
                </p:nvGrpSpPr>
                <p:grpSpPr>
                  <a:xfrm>
                    <a:off x="5835600" y="2853000"/>
                    <a:ext cx="1521720" cy="1297440"/>
                    <a:chOff x="5835600" y="2853000"/>
                    <a:chExt cx="1521720" cy="1297440"/>
                  </a:xfrm>
                </p:grpSpPr>
                <p:grpSp>
                  <p:nvGrpSpPr>
                    <p:cNvPr id="236" name=""/>
                    <p:cNvGrpSpPr/>
                    <p:nvPr/>
                  </p:nvGrpSpPr>
                  <p:grpSpPr>
                    <a:xfrm>
                      <a:off x="5835600" y="2853000"/>
                      <a:ext cx="1521720" cy="1297440"/>
                      <a:chOff x="5835600" y="2853000"/>
                      <a:chExt cx="1521720" cy="1297440"/>
                    </a:xfrm>
                  </p:grpSpPr>
                  <p:sp>
                    <p:nvSpPr>
                      <p:cNvPr id="237" name=""/>
                      <p:cNvSpPr/>
                      <p:nvPr/>
                    </p:nvSpPr>
                    <p:spPr>
                      <a:xfrm rot="675000">
                        <a:off x="5978160" y="2968200"/>
                        <a:ext cx="1287360" cy="1066680"/>
                      </a:xfrm>
                      <a:custGeom>
                        <a:avLst/>
                        <a:gdLst/>
                        <a:ahLst/>
                        <a:rect l="l" t="t" r="r" b="b"/>
                        <a:pathLst>
                          <a:path w="1202" h="995">
                            <a:moveTo>
                              <a:pt x="1119" y="808"/>
                            </a:moveTo>
                            <a:cubicBezTo>
                              <a:pt x="1120" y="799"/>
                              <a:pt x="1142" y="830"/>
                              <a:pt x="1155" y="838"/>
                            </a:cubicBezTo>
                            <a:cubicBezTo>
                              <a:pt x="1168" y="846"/>
                              <a:pt x="1202" y="877"/>
                              <a:pt x="1197" y="856"/>
                            </a:cubicBezTo>
                            <a:cubicBezTo>
                              <a:pt x="1192" y="835"/>
                              <a:pt x="1147" y="754"/>
                              <a:pt x="1125" y="712"/>
                            </a:cubicBezTo>
                            <a:cubicBezTo>
                              <a:pt x="1103" y="670"/>
                              <a:pt x="1077" y="628"/>
                              <a:pt x="1065" y="604"/>
                            </a:cubicBezTo>
                            <a:cubicBezTo>
                              <a:pt x="1053" y="580"/>
                              <a:pt x="1058" y="584"/>
                              <a:pt x="1053" y="568"/>
                            </a:cubicBezTo>
                            <a:cubicBezTo>
                              <a:pt x="1048" y="552"/>
                              <a:pt x="1046" y="534"/>
                              <a:pt x="1035" y="508"/>
                            </a:cubicBezTo>
                            <a:cubicBezTo>
                              <a:pt x="1024" y="482"/>
                              <a:pt x="1000" y="441"/>
                              <a:pt x="987" y="412"/>
                            </a:cubicBezTo>
                            <a:cubicBezTo>
                              <a:pt x="974" y="383"/>
                              <a:pt x="971" y="358"/>
                              <a:pt x="957" y="334"/>
                            </a:cubicBezTo>
                            <a:cubicBezTo>
                              <a:pt x="943" y="310"/>
                              <a:pt x="926" y="292"/>
                              <a:pt x="903" y="268"/>
                            </a:cubicBezTo>
                            <a:cubicBezTo>
                              <a:pt x="880" y="244"/>
                              <a:pt x="840" y="213"/>
                              <a:pt x="819" y="190"/>
                            </a:cubicBezTo>
                            <a:cubicBezTo>
                              <a:pt x="798" y="167"/>
                              <a:pt x="805" y="155"/>
                              <a:pt x="777" y="130"/>
                            </a:cubicBezTo>
                            <a:cubicBezTo>
                              <a:pt x="749" y="105"/>
                              <a:pt x="700" y="61"/>
                              <a:pt x="651" y="40"/>
                            </a:cubicBezTo>
                            <a:cubicBezTo>
                              <a:pt x="602" y="19"/>
                              <a:pt x="539" y="0"/>
                              <a:pt x="483" y="4"/>
                            </a:cubicBezTo>
                            <a:cubicBezTo>
                              <a:pt x="427" y="8"/>
                              <a:pt x="344" y="29"/>
                              <a:pt x="315" y="64"/>
                            </a:cubicBezTo>
                            <a:cubicBezTo>
                              <a:pt x="286" y="99"/>
                              <a:pt x="315" y="170"/>
                              <a:pt x="309" y="214"/>
                            </a:cubicBezTo>
                            <a:cubicBezTo>
                              <a:pt x="303" y="258"/>
                              <a:pt x="301" y="307"/>
                              <a:pt x="279" y="328"/>
                            </a:cubicBezTo>
                            <a:cubicBezTo>
                              <a:pt x="257" y="349"/>
                              <a:pt x="210" y="322"/>
                              <a:pt x="177" y="340"/>
                            </a:cubicBezTo>
                            <a:cubicBezTo>
                              <a:pt x="144" y="358"/>
                              <a:pt x="109" y="397"/>
                              <a:pt x="81" y="436"/>
                            </a:cubicBezTo>
                            <a:cubicBezTo>
                              <a:pt x="53" y="475"/>
                              <a:pt x="18" y="530"/>
                              <a:pt x="9" y="574"/>
                            </a:cubicBezTo>
                            <a:cubicBezTo>
                              <a:pt x="0" y="618"/>
                              <a:pt x="16" y="672"/>
                              <a:pt x="27" y="700"/>
                            </a:cubicBezTo>
                            <a:cubicBezTo>
                              <a:pt x="38" y="728"/>
                              <a:pt x="61" y="729"/>
                              <a:pt x="75" y="742"/>
                            </a:cubicBezTo>
                            <a:cubicBezTo>
                              <a:pt x="89" y="755"/>
                              <a:pt x="96" y="765"/>
                              <a:pt x="111" y="778"/>
                            </a:cubicBezTo>
                            <a:cubicBezTo>
                              <a:pt x="126" y="791"/>
                              <a:pt x="157" y="823"/>
                              <a:pt x="165" y="820"/>
                            </a:cubicBezTo>
                            <a:cubicBezTo>
                              <a:pt x="173" y="817"/>
                              <a:pt x="160" y="780"/>
                              <a:pt x="159" y="760"/>
                            </a:cubicBezTo>
                            <a:cubicBezTo>
                              <a:pt x="158" y="740"/>
                              <a:pt x="157" y="717"/>
                              <a:pt x="159" y="700"/>
                            </a:cubicBezTo>
                            <a:cubicBezTo>
                              <a:pt x="161" y="683"/>
                              <a:pt x="159" y="669"/>
                              <a:pt x="171" y="658"/>
                            </a:cubicBezTo>
                            <a:cubicBezTo>
                              <a:pt x="183" y="647"/>
                              <a:pt x="220" y="631"/>
                              <a:pt x="231" y="634"/>
                            </a:cubicBezTo>
                            <a:cubicBezTo>
                              <a:pt x="242" y="637"/>
                              <a:pt x="223" y="664"/>
                              <a:pt x="237" y="676"/>
                            </a:cubicBezTo>
                            <a:cubicBezTo>
                              <a:pt x="251" y="688"/>
                              <a:pt x="296" y="700"/>
                              <a:pt x="315" y="706"/>
                            </a:cubicBezTo>
                            <a:cubicBezTo>
                              <a:pt x="334" y="712"/>
                              <a:pt x="332" y="706"/>
                              <a:pt x="351" y="712"/>
                            </a:cubicBezTo>
                            <a:cubicBezTo>
                              <a:pt x="370" y="718"/>
                              <a:pt x="411" y="732"/>
                              <a:pt x="429" y="742"/>
                            </a:cubicBezTo>
                            <a:cubicBezTo>
                              <a:pt x="447" y="752"/>
                              <a:pt x="456" y="750"/>
                              <a:pt x="459" y="772"/>
                            </a:cubicBezTo>
                            <a:cubicBezTo>
                              <a:pt x="462" y="794"/>
                              <a:pt x="450" y="846"/>
                              <a:pt x="447" y="874"/>
                            </a:cubicBezTo>
                            <a:cubicBezTo>
                              <a:pt x="444" y="902"/>
                              <a:pt x="425" y="931"/>
                              <a:pt x="441" y="940"/>
                            </a:cubicBezTo>
                            <a:cubicBezTo>
                              <a:pt x="457" y="949"/>
                              <a:pt x="518" y="943"/>
                              <a:pt x="543" y="928"/>
                            </a:cubicBezTo>
                            <a:cubicBezTo>
                              <a:pt x="568" y="913"/>
                              <a:pt x="582" y="873"/>
                              <a:pt x="591" y="850"/>
                            </a:cubicBezTo>
                            <a:cubicBezTo>
                              <a:pt x="600" y="827"/>
                              <a:pt x="596" y="788"/>
                              <a:pt x="597" y="790"/>
                            </a:cubicBezTo>
                            <a:cubicBezTo>
                              <a:pt x="598" y="792"/>
                              <a:pt x="591" y="844"/>
                              <a:pt x="597" y="862"/>
                            </a:cubicBezTo>
                            <a:cubicBezTo>
                              <a:pt x="603" y="880"/>
                              <a:pt x="616" y="883"/>
                              <a:pt x="633" y="898"/>
                            </a:cubicBezTo>
                            <a:cubicBezTo>
                              <a:pt x="650" y="913"/>
                              <a:pt x="682" y="941"/>
                              <a:pt x="699" y="952"/>
                            </a:cubicBezTo>
                            <a:cubicBezTo>
                              <a:pt x="716" y="963"/>
                              <a:pt x="722" y="957"/>
                              <a:pt x="735" y="964"/>
                            </a:cubicBezTo>
                            <a:cubicBezTo>
                              <a:pt x="748" y="971"/>
                              <a:pt x="757" y="993"/>
                              <a:pt x="777" y="994"/>
                            </a:cubicBezTo>
                            <a:cubicBezTo>
                              <a:pt x="797" y="995"/>
                              <a:pt x="839" y="981"/>
                              <a:pt x="855" y="970"/>
                            </a:cubicBezTo>
                            <a:cubicBezTo>
                              <a:pt x="871" y="959"/>
                              <a:pt x="862" y="936"/>
                              <a:pt x="873" y="928"/>
                            </a:cubicBezTo>
                            <a:cubicBezTo>
                              <a:pt x="884" y="920"/>
                              <a:pt x="912" y="936"/>
                              <a:pt x="921" y="922"/>
                            </a:cubicBezTo>
                            <a:cubicBezTo>
                              <a:pt x="930" y="908"/>
                              <a:pt x="926" y="866"/>
                              <a:pt x="927" y="844"/>
                            </a:cubicBezTo>
                            <a:cubicBezTo>
                              <a:pt x="928" y="822"/>
                              <a:pt x="939" y="810"/>
                              <a:pt x="927" y="790"/>
                            </a:cubicBezTo>
                            <a:cubicBezTo>
                              <a:pt x="915" y="770"/>
                              <a:pt x="877" y="747"/>
                              <a:pt x="855" y="724"/>
                            </a:cubicBezTo>
                            <a:cubicBezTo>
                              <a:pt x="833" y="701"/>
                              <a:pt x="806" y="674"/>
                              <a:pt x="795" y="652"/>
                            </a:cubicBezTo>
                            <a:cubicBezTo>
                              <a:pt x="784" y="630"/>
                              <a:pt x="784" y="603"/>
                              <a:pt x="789" y="592"/>
                            </a:cubicBezTo>
                            <a:cubicBezTo>
                              <a:pt x="794" y="581"/>
                              <a:pt x="815" y="581"/>
                              <a:pt x="825" y="586"/>
                            </a:cubicBezTo>
                            <a:cubicBezTo>
                              <a:pt x="835" y="591"/>
                              <a:pt x="832" y="609"/>
                              <a:pt x="849" y="622"/>
                            </a:cubicBezTo>
                            <a:cubicBezTo>
                              <a:pt x="866" y="635"/>
                              <a:pt x="910" y="646"/>
                              <a:pt x="927" y="664"/>
                            </a:cubicBezTo>
                            <a:cubicBezTo>
                              <a:pt x="944" y="682"/>
                              <a:pt x="938" y="709"/>
                              <a:pt x="951" y="730"/>
                            </a:cubicBezTo>
                            <a:cubicBezTo>
                              <a:pt x="964" y="751"/>
                              <a:pt x="983" y="769"/>
                              <a:pt x="1005" y="790"/>
                            </a:cubicBezTo>
                            <a:cubicBezTo>
                              <a:pt x="1027" y="811"/>
                              <a:pt x="1065" y="834"/>
                              <a:pt x="1083" y="856"/>
                            </a:cubicBezTo>
                            <a:cubicBezTo>
                              <a:pt x="1101" y="878"/>
                              <a:pt x="1102" y="916"/>
                              <a:pt x="1113" y="922"/>
                            </a:cubicBezTo>
                            <a:cubicBezTo>
                              <a:pt x="1124" y="928"/>
                              <a:pt x="1146" y="906"/>
                              <a:pt x="1149" y="892"/>
                            </a:cubicBezTo>
                            <a:cubicBezTo>
                              <a:pt x="1152" y="878"/>
                              <a:pt x="1118" y="817"/>
                              <a:pt x="1119" y="808"/>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rot="675000">
                        <a:off x="5853960" y="3025800"/>
                        <a:ext cx="570600" cy="245520"/>
                      </a:xfrm>
                      <a:custGeom>
                        <a:avLst/>
                        <a:gdLst/>
                        <a:ahLst/>
                        <a:rect l="l" t="t" r="r" b="b"/>
                        <a:pathLst>
                          <a:path w="533" h="229">
                            <a:moveTo>
                              <a:pt x="301" y="222"/>
                            </a:moveTo>
                            <a:cubicBezTo>
                              <a:pt x="274" y="215"/>
                              <a:pt x="272" y="186"/>
                              <a:pt x="253" y="174"/>
                            </a:cubicBezTo>
                            <a:cubicBezTo>
                              <a:pt x="234" y="162"/>
                              <a:pt x="215" y="153"/>
                              <a:pt x="187" y="150"/>
                            </a:cubicBezTo>
                            <a:cubicBezTo>
                              <a:pt x="159" y="147"/>
                              <a:pt x="115" y="158"/>
                              <a:pt x="85" y="156"/>
                            </a:cubicBezTo>
                            <a:cubicBezTo>
                              <a:pt x="55" y="154"/>
                              <a:pt x="14" y="156"/>
                              <a:pt x="7" y="138"/>
                            </a:cubicBezTo>
                            <a:cubicBezTo>
                              <a:pt x="0" y="120"/>
                              <a:pt x="15" y="70"/>
                              <a:pt x="43" y="48"/>
                            </a:cubicBezTo>
                            <a:cubicBezTo>
                              <a:pt x="71" y="26"/>
                              <a:pt x="124" y="12"/>
                              <a:pt x="175" y="6"/>
                            </a:cubicBezTo>
                            <a:cubicBezTo>
                              <a:pt x="226" y="0"/>
                              <a:pt x="293" y="3"/>
                              <a:pt x="349" y="12"/>
                            </a:cubicBezTo>
                            <a:cubicBezTo>
                              <a:pt x="405" y="21"/>
                              <a:pt x="489" y="36"/>
                              <a:pt x="511" y="60"/>
                            </a:cubicBezTo>
                            <a:cubicBezTo>
                              <a:pt x="533" y="84"/>
                              <a:pt x="497" y="130"/>
                              <a:pt x="481" y="156"/>
                            </a:cubicBezTo>
                            <a:cubicBezTo>
                              <a:pt x="465" y="182"/>
                              <a:pt x="444" y="204"/>
                              <a:pt x="415" y="216"/>
                            </a:cubicBezTo>
                            <a:cubicBezTo>
                              <a:pt x="386" y="228"/>
                              <a:pt x="328" y="229"/>
                              <a:pt x="301" y="222"/>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rot="675000">
                        <a:off x="6174720" y="3607920"/>
                        <a:ext cx="180720" cy="228960"/>
                      </a:xfrm>
                      <a:custGeom>
                        <a:avLst/>
                        <a:gdLst/>
                        <a:ahLst/>
                        <a:rect l="l" t="t" r="r" b="b"/>
                        <a:pathLst>
                          <a:path w="169" h="214">
                            <a:moveTo>
                              <a:pt x="19" y="36"/>
                            </a:moveTo>
                            <a:cubicBezTo>
                              <a:pt x="14" y="54"/>
                              <a:pt x="16" y="87"/>
                              <a:pt x="13" y="108"/>
                            </a:cubicBezTo>
                            <a:cubicBezTo>
                              <a:pt x="10" y="129"/>
                              <a:pt x="0" y="146"/>
                              <a:pt x="1" y="162"/>
                            </a:cubicBezTo>
                            <a:cubicBezTo>
                              <a:pt x="2" y="178"/>
                              <a:pt x="3" y="197"/>
                              <a:pt x="19" y="204"/>
                            </a:cubicBezTo>
                            <a:cubicBezTo>
                              <a:pt x="35" y="211"/>
                              <a:pt x="76" y="214"/>
                              <a:pt x="97" y="204"/>
                            </a:cubicBezTo>
                            <a:cubicBezTo>
                              <a:pt x="118" y="194"/>
                              <a:pt x="136" y="165"/>
                              <a:pt x="145" y="144"/>
                            </a:cubicBezTo>
                            <a:cubicBezTo>
                              <a:pt x="154" y="123"/>
                              <a:pt x="150" y="96"/>
                              <a:pt x="151" y="78"/>
                            </a:cubicBezTo>
                            <a:cubicBezTo>
                              <a:pt x="152" y="60"/>
                              <a:pt x="169" y="49"/>
                              <a:pt x="151" y="36"/>
                            </a:cubicBezTo>
                            <a:cubicBezTo>
                              <a:pt x="133" y="23"/>
                              <a:pt x="64" y="0"/>
                              <a:pt x="43" y="0"/>
                            </a:cubicBezTo>
                            <a:cubicBezTo>
                              <a:pt x="22" y="0"/>
                              <a:pt x="24" y="18"/>
                              <a:pt x="19" y="36"/>
                            </a:cubicBez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rot="675000">
                        <a:off x="6226200" y="3915720"/>
                        <a:ext cx="212040" cy="160920"/>
                      </a:xfrm>
                      <a:custGeom>
                        <a:avLst/>
                        <a:gdLst/>
                        <a:ahLst/>
                        <a:rect l="l" t="t" r="r" b="b"/>
                        <a:pathLst>
                          <a:path w="198" h="150">
                            <a:moveTo>
                              <a:pt x="108" y="18"/>
                            </a:moveTo>
                            <a:lnTo>
                              <a:pt x="78" y="42"/>
                            </a:lnTo>
                            <a:lnTo>
                              <a:pt x="30" y="30"/>
                            </a:lnTo>
                            <a:lnTo>
                              <a:pt x="0" y="78"/>
                            </a:lnTo>
                            <a:lnTo>
                              <a:pt x="78" y="54"/>
                            </a:lnTo>
                            <a:lnTo>
                              <a:pt x="24" y="84"/>
                            </a:lnTo>
                            <a:lnTo>
                              <a:pt x="30" y="132"/>
                            </a:lnTo>
                            <a:lnTo>
                              <a:pt x="66" y="84"/>
                            </a:lnTo>
                            <a:lnTo>
                              <a:pt x="132" y="78"/>
                            </a:lnTo>
                            <a:lnTo>
                              <a:pt x="150" y="138"/>
                            </a:lnTo>
                            <a:lnTo>
                              <a:pt x="198" y="150"/>
                            </a:lnTo>
                            <a:lnTo>
                              <a:pt x="162" y="84"/>
                            </a:lnTo>
                            <a:lnTo>
                              <a:pt x="192" y="0"/>
                            </a:lnTo>
                            <a:lnTo>
                              <a:pt x="108" y="18"/>
                            </a:ln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675000">
                        <a:off x="6019200" y="3782520"/>
                        <a:ext cx="212040" cy="141480"/>
                      </a:xfrm>
                      <a:custGeom>
                        <a:avLst/>
                        <a:gdLst/>
                        <a:ahLst/>
                        <a:rect l="l" t="t" r="r" b="b"/>
                        <a:pathLst>
                          <a:path w="198" h="132">
                            <a:moveTo>
                              <a:pt x="108" y="0"/>
                            </a:moveTo>
                            <a:lnTo>
                              <a:pt x="78" y="24"/>
                            </a:lnTo>
                            <a:lnTo>
                              <a:pt x="30" y="12"/>
                            </a:lnTo>
                            <a:lnTo>
                              <a:pt x="0" y="60"/>
                            </a:lnTo>
                            <a:lnTo>
                              <a:pt x="78" y="36"/>
                            </a:lnTo>
                            <a:lnTo>
                              <a:pt x="24" y="66"/>
                            </a:lnTo>
                            <a:lnTo>
                              <a:pt x="30" y="114"/>
                            </a:lnTo>
                            <a:lnTo>
                              <a:pt x="66" y="66"/>
                            </a:lnTo>
                            <a:lnTo>
                              <a:pt x="132" y="60"/>
                            </a:lnTo>
                            <a:lnTo>
                              <a:pt x="150" y="120"/>
                            </a:lnTo>
                            <a:lnTo>
                              <a:pt x="198" y="132"/>
                            </a:lnTo>
                            <a:lnTo>
                              <a:pt x="162" y="66"/>
                            </a:lnTo>
                            <a:lnTo>
                              <a:pt x="168" y="24"/>
                            </a:lnTo>
                            <a:lnTo>
                              <a:pt x="108" y="0"/>
                            </a:lnTo>
                            <a:close/>
                          </a:path>
                        </a:pathLst>
                      </a:custGeom>
                      <a:solidFill>
                        <a:srgbClr val="6633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2" name=""/>
                    <p:cNvSpPr/>
                    <p:nvPr/>
                  </p:nvSpPr>
                  <p:spPr>
                    <a:xfrm rot="675000">
                      <a:off x="6033600" y="3524760"/>
                      <a:ext cx="37080" cy="38520"/>
                    </a:xfrm>
                    <a:prstGeom prst="ellipse">
                      <a:avLst/>
                    </a:prstGeom>
                    <a:solidFill>
                      <a:srgbClr val="000000"/>
                    </a:solidFill>
                    <a:ln w="9360">
                      <a:solidFill>
                        <a:srgbClr val="996633"/>
                      </a:solidFill>
                      <a:miter/>
                    </a:ln>
                  </p:spPr>
                  <p:style>
                    <a:lnRef idx="0"/>
                    <a:fillRef idx="0"/>
                    <a:effectRef idx="0"/>
                    <a:fontRef idx="minor"/>
                  </p:style>
                  <p:txBody>
                    <a:bodyPr wrap="none" lIns="90000" rIns="90000" tIns="-19080" bIns="-19080" anchor="ctr">
                      <a:noAutofit/>
                    </a:bodyPr>
                    <a:p>
                      <a:endParaRPr b="0" lang="en-US" sz="2400" spc="-1" strike="noStrike">
                        <a:solidFill>
                          <a:srgbClr val="ffffff"/>
                        </a:solidFill>
                        <a:latin typeface="Times New Roman"/>
                      </a:endParaRPr>
                    </a:p>
                  </p:txBody>
                </p:sp>
              </p:grpSp>
              <p:sp>
                <p:nvSpPr>
                  <p:cNvPr id="243" name=""/>
                  <p:cNvSpPr/>
                  <p:nvPr/>
                </p:nvSpPr>
                <p:spPr>
                  <a:xfrm>
                    <a:off x="4681080" y="3152520"/>
                    <a:ext cx="1279440" cy="932040"/>
                  </a:xfrm>
                  <a:custGeom>
                    <a:avLst/>
                    <a:gdLst/>
                    <a:ahLst/>
                    <a:rect l="l" t="t" r="r" b="b"/>
                    <a:pathLst>
                      <a:path w="995" h="724">
                        <a:moveTo>
                          <a:pt x="967" y="571"/>
                        </a:moveTo>
                        <a:cubicBezTo>
                          <a:pt x="953" y="560"/>
                          <a:pt x="924" y="539"/>
                          <a:pt x="910" y="526"/>
                        </a:cubicBezTo>
                        <a:cubicBezTo>
                          <a:pt x="896" y="513"/>
                          <a:pt x="892" y="504"/>
                          <a:pt x="883" y="492"/>
                        </a:cubicBezTo>
                        <a:cubicBezTo>
                          <a:pt x="874" y="480"/>
                          <a:pt x="864" y="471"/>
                          <a:pt x="857" y="454"/>
                        </a:cubicBezTo>
                        <a:cubicBezTo>
                          <a:pt x="850" y="437"/>
                          <a:pt x="850" y="408"/>
                          <a:pt x="842" y="388"/>
                        </a:cubicBezTo>
                        <a:cubicBezTo>
                          <a:pt x="834" y="368"/>
                          <a:pt x="826" y="352"/>
                          <a:pt x="809" y="333"/>
                        </a:cubicBezTo>
                        <a:cubicBezTo>
                          <a:pt x="792" y="314"/>
                          <a:pt x="777" y="292"/>
                          <a:pt x="743" y="277"/>
                        </a:cubicBezTo>
                        <a:cubicBezTo>
                          <a:pt x="709" y="262"/>
                          <a:pt x="648" y="245"/>
                          <a:pt x="605" y="241"/>
                        </a:cubicBezTo>
                        <a:cubicBezTo>
                          <a:pt x="562" y="237"/>
                          <a:pt x="520" y="255"/>
                          <a:pt x="482" y="256"/>
                        </a:cubicBezTo>
                        <a:cubicBezTo>
                          <a:pt x="444" y="257"/>
                          <a:pt x="406" y="253"/>
                          <a:pt x="374" y="247"/>
                        </a:cubicBezTo>
                        <a:cubicBezTo>
                          <a:pt x="342" y="241"/>
                          <a:pt x="308" y="238"/>
                          <a:pt x="290" y="223"/>
                        </a:cubicBezTo>
                        <a:cubicBezTo>
                          <a:pt x="272" y="208"/>
                          <a:pt x="268" y="170"/>
                          <a:pt x="263" y="154"/>
                        </a:cubicBezTo>
                        <a:cubicBezTo>
                          <a:pt x="258" y="138"/>
                          <a:pt x="266" y="141"/>
                          <a:pt x="260" y="127"/>
                        </a:cubicBezTo>
                        <a:cubicBezTo>
                          <a:pt x="254" y="113"/>
                          <a:pt x="237" y="89"/>
                          <a:pt x="227" y="70"/>
                        </a:cubicBezTo>
                        <a:cubicBezTo>
                          <a:pt x="217" y="51"/>
                          <a:pt x="206" y="19"/>
                          <a:pt x="197" y="13"/>
                        </a:cubicBezTo>
                        <a:cubicBezTo>
                          <a:pt x="188" y="7"/>
                          <a:pt x="180" y="31"/>
                          <a:pt x="173" y="37"/>
                        </a:cubicBezTo>
                        <a:cubicBezTo>
                          <a:pt x="166" y="43"/>
                          <a:pt x="160" y="42"/>
                          <a:pt x="158" y="49"/>
                        </a:cubicBezTo>
                        <a:cubicBezTo>
                          <a:pt x="156" y="56"/>
                          <a:pt x="161" y="83"/>
                          <a:pt x="158" y="82"/>
                        </a:cubicBezTo>
                        <a:cubicBezTo>
                          <a:pt x="155" y="81"/>
                          <a:pt x="144" y="53"/>
                          <a:pt x="137" y="40"/>
                        </a:cubicBezTo>
                        <a:cubicBezTo>
                          <a:pt x="130" y="27"/>
                          <a:pt x="122" y="0"/>
                          <a:pt x="116" y="1"/>
                        </a:cubicBezTo>
                        <a:cubicBezTo>
                          <a:pt x="110" y="2"/>
                          <a:pt x="105" y="33"/>
                          <a:pt x="103" y="46"/>
                        </a:cubicBezTo>
                        <a:cubicBezTo>
                          <a:pt x="101" y="59"/>
                          <a:pt x="100" y="67"/>
                          <a:pt x="103" y="78"/>
                        </a:cubicBezTo>
                        <a:cubicBezTo>
                          <a:pt x="106" y="89"/>
                          <a:pt x="127" y="106"/>
                          <a:pt x="124" y="115"/>
                        </a:cubicBezTo>
                        <a:cubicBezTo>
                          <a:pt x="121" y="124"/>
                          <a:pt x="94" y="127"/>
                          <a:pt x="85" y="135"/>
                        </a:cubicBezTo>
                        <a:cubicBezTo>
                          <a:pt x="76" y="143"/>
                          <a:pt x="78" y="157"/>
                          <a:pt x="67" y="166"/>
                        </a:cubicBezTo>
                        <a:cubicBezTo>
                          <a:pt x="56" y="175"/>
                          <a:pt x="30" y="182"/>
                          <a:pt x="20" y="187"/>
                        </a:cubicBezTo>
                        <a:cubicBezTo>
                          <a:pt x="10" y="192"/>
                          <a:pt x="0" y="192"/>
                          <a:pt x="5" y="199"/>
                        </a:cubicBezTo>
                        <a:cubicBezTo>
                          <a:pt x="10" y="206"/>
                          <a:pt x="37" y="221"/>
                          <a:pt x="53" y="229"/>
                        </a:cubicBezTo>
                        <a:cubicBezTo>
                          <a:pt x="69" y="237"/>
                          <a:pt x="88" y="243"/>
                          <a:pt x="104" y="250"/>
                        </a:cubicBezTo>
                        <a:cubicBezTo>
                          <a:pt x="120" y="257"/>
                          <a:pt x="138" y="261"/>
                          <a:pt x="148" y="274"/>
                        </a:cubicBezTo>
                        <a:cubicBezTo>
                          <a:pt x="158" y="287"/>
                          <a:pt x="159" y="308"/>
                          <a:pt x="167" y="328"/>
                        </a:cubicBezTo>
                        <a:cubicBezTo>
                          <a:pt x="175" y="348"/>
                          <a:pt x="183" y="375"/>
                          <a:pt x="194" y="394"/>
                        </a:cubicBezTo>
                        <a:cubicBezTo>
                          <a:pt x="205" y="413"/>
                          <a:pt x="219" y="432"/>
                          <a:pt x="233" y="445"/>
                        </a:cubicBezTo>
                        <a:cubicBezTo>
                          <a:pt x="247" y="458"/>
                          <a:pt x="266" y="459"/>
                          <a:pt x="278" y="472"/>
                        </a:cubicBezTo>
                        <a:cubicBezTo>
                          <a:pt x="290" y="485"/>
                          <a:pt x="298" y="503"/>
                          <a:pt x="305" y="523"/>
                        </a:cubicBezTo>
                        <a:cubicBezTo>
                          <a:pt x="312" y="543"/>
                          <a:pt x="317" y="572"/>
                          <a:pt x="317" y="594"/>
                        </a:cubicBezTo>
                        <a:cubicBezTo>
                          <a:pt x="317" y="616"/>
                          <a:pt x="312" y="645"/>
                          <a:pt x="308" y="658"/>
                        </a:cubicBezTo>
                        <a:cubicBezTo>
                          <a:pt x="304" y="671"/>
                          <a:pt x="297" y="670"/>
                          <a:pt x="290" y="673"/>
                        </a:cubicBezTo>
                        <a:cubicBezTo>
                          <a:pt x="283" y="676"/>
                          <a:pt x="268" y="673"/>
                          <a:pt x="263" y="679"/>
                        </a:cubicBezTo>
                        <a:cubicBezTo>
                          <a:pt x="258" y="685"/>
                          <a:pt x="252" y="705"/>
                          <a:pt x="257" y="712"/>
                        </a:cubicBezTo>
                        <a:cubicBezTo>
                          <a:pt x="262" y="719"/>
                          <a:pt x="282" y="724"/>
                          <a:pt x="293" y="724"/>
                        </a:cubicBezTo>
                        <a:cubicBezTo>
                          <a:pt x="304" y="724"/>
                          <a:pt x="318" y="717"/>
                          <a:pt x="325" y="712"/>
                        </a:cubicBezTo>
                        <a:cubicBezTo>
                          <a:pt x="332" y="707"/>
                          <a:pt x="333" y="697"/>
                          <a:pt x="338" y="691"/>
                        </a:cubicBezTo>
                        <a:cubicBezTo>
                          <a:pt x="343" y="685"/>
                          <a:pt x="350" y="681"/>
                          <a:pt x="356" y="679"/>
                        </a:cubicBezTo>
                        <a:cubicBezTo>
                          <a:pt x="362" y="677"/>
                          <a:pt x="372" y="684"/>
                          <a:pt x="377" y="679"/>
                        </a:cubicBezTo>
                        <a:cubicBezTo>
                          <a:pt x="382" y="674"/>
                          <a:pt x="384" y="658"/>
                          <a:pt x="388" y="651"/>
                        </a:cubicBezTo>
                        <a:cubicBezTo>
                          <a:pt x="392" y="644"/>
                          <a:pt x="398" y="641"/>
                          <a:pt x="400" y="639"/>
                        </a:cubicBezTo>
                        <a:cubicBezTo>
                          <a:pt x="402" y="637"/>
                          <a:pt x="399" y="649"/>
                          <a:pt x="398" y="637"/>
                        </a:cubicBezTo>
                        <a:cubicBezTo>
                          <a:pt x="397" y="625"/>
                          <a:pt x="394" y="586"/>
                          <a:pt x="395" y="567"/>
                        </a:cubicBezTo>
                        <a:cubicBezTo>
                          <a:pt x="396" y="548"/>
                          <a:pt x="402" y="533"/>
                          <a:pt x="404" y="520"/>
                        </a:cubicBezTo>
                        <a:cubicBezTo>
                          <a:pt x="406" y="507"/>
                          <a:pt x="408" y="495"/>
                          <a:pt x="407" y="487"/>
                        </a:cubicBezTo>
                        <a:cubicBezTo>
                          <a:pt x="406" y="479"/>
                          <a:pt x="384" y="469"/>
                          <a:pt x="398" y="469"/>
                        </a:cubicBezTo>
                        <a:cubicBezTo>
                          <a:pt x="412" y="469"/>
                          <a:pt x="464" y="487"/>
                          <a:pt x="494" y="487"/>
                        </a:cubicBezTo>
                        <a:cubicBezTo>
                          <a:pt x="524" y="487"/>
                          <a:pt x="557" y="464"/>
                          <a:pt x="581" y="466"/>
                        </a:cubicBezTo>
                        <a:cubicBezTo>
                          <a:pt x="605" y="468"/>
                          <a:pt x="621" y="489"/>
                          <a:pt x="638" y="499"/>
                        </a:cubicBezTo>
                        <a:cubicBezTo>
                          <a:pt x="655" y="509"/>
                          <a:pt x="671" y="515"/>
                          <a:pt x="683" y="529"/>
                        </a:cubicBezTo>
                        <a:cubicBezTo>
                          <a:pt x="695" y="543"/>
                          <a:pt x="704" y="561"/>
                          <a:pt x="709" y="583"/>
                        </a:cubicBezTo>
                        <a:cubicBezTo>
                          <a:pt x="714" y="605"/>
                          <a:pt x="721" y="649"/>
                          <a:pt x="713" y="664"/>
                        </a:cubicBezTo>
                        <a:cubicBezTo>
                          <a:pt x="705" y="679"/>
                          <a:pt x="671" y="666"/>
                          <a:pt x="661" y="673"/>
                        </a:cubicBezTo>
                        <a:cubicBezTo>
                          <a:pt x="651" y="680"/>
                          <a:pt x="644" y="698"/>
                          <a:pt x="650" y="706"/>
                        </a:cubicBezTo>
                        <a:cubicBezTo>
                          <a:pt x="656" y="714"/>
                          <a:pt x="682" y="721"/>
                          <a:pt x="695" y="721"/>
                        </a:cubicBezTo>
                        <a:cubicBezTo>
                          <a:pt x="708" y="721"/>
                          <a:pt x="721" y="715"/>
                          <a:pt x="728" y="709"/>
                        </a:cubicBezTo>
                        <a:cubicBezTo>
                          <a:pt x="735" y="703"/>
                          <a:pt x="734" y="692"/>
                          <a:pt x="740" y="685"/>
                        </a:cubicBezTo>
                        <a:cubicBezTo>
                          <a:pt x="746" y="678"/>
                          <a:pt x="758" y="676"/>
                          <a:pt x="764" y="664"/>
                        </a:cubicBezTo>
                        <a:cubicBezTo>
                          <a:pt x="770" y="652"/>
                          <a:pt x="776" y="622"/>
                          <a:pt x="779" y="610"/>
                        </a:cubicBezTo>
                        <a:cubicBezTo>
                          <a:pt x="782" y="598"/>
                          <a:pt x="778" y="587"/>
                          <a:pt x="785" y="592"/>
                        </a:cubicBezTo>
                        <a:cubicBezTo>
                          <a:pt x="792" y="597"/>
                          <a:pt x="808" y="628"/>
                          <a:pt x="824" y="640"/>
                        </a:cubicBezTo>
                        <a:cubicBezTo>
                          <a:pt x="840" y="652"/>
                          <a:pt x="862" y="662"/>
                          <a:pt x="881" y="664"/>
                        </a:cubicBezTo>
                        <a:cubicBezTo>
                          <a:pt x="900" y="666"/>
                          <a:pt x="924" y="661"/>
                          <a:pt x="941" y="655"/>
                        </a:cubicBezTo>
                        <a:cubicBezTo>
                          <a:pt x="958" y="649"/>
                          <a:pt x="974" y="636"/>
                          <a:pt x="983" y="625"/>
                        </a:cubicBezTo>
                        <a:cubicBezTo>
                          <a:pt x="992" y="614"/>
                          <a:pt x="995" y="601"/>
                          <a:pt x="992" y="592"/>
                        </a:cubicBezTo>
                        <a:cubicBezTo>
                          <a:pt x="989" y="583"/>
                          <a:pt x="975" y="578"/>
                          <a:pt x="967" y="571"/>
                        </a:cubicBezTo>
                        <a:close/>
                      </a:path>
                    </a:pathLst>
                  </a:custGeom>
                  <a:solidFill>
                    <a:srgbClr val="b46014"/>
                  </a:solidFill>
                  <a:ln w="9360">
                    <a:solidFill>
                      <a:srgbClr val="9b3a0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3508200" y="5565600"/>
                  <a:ext cx="4925520" cy="930240"/>
                  <a:chOff x="3508200" y="5565600"/>
                  <a:chExt cx="4925520" cy="930240"/>
                </a:xfrm>
              </p:grpSpPr>
              <p:sp>
                <p:nvSpPr>
                  <p:cNvPr id="245" name=""/>
                  <p:cNvSpPr/>
                  <p:nvPr/>
                </p:nvSpPr>
                <p:spPr>
                  <a:xfrm>
                    <a:off x="3508200" y="5769000"/>
                    <a:ext cx="820440" cy="685800"/>
                  </a:xfrm>
                  <a:custGeom>
                    <a:avLst/>
                    <a:gdLst/>
                    <a:ahLst/>
                    <a:rect l="l" t="t" r="r" b="b"/>
                    <a:pathLst>
                      <a:path w="689" h="614">
                        <a:moveTo>
                          <a:pt x="256" y="606"/>
                        </a:moveTo>
                        <a:cubicBezTo>
                          <a:pt x="296" y="606"/>
                          <a:pt x="336" y="606"/>
                          <a:pt x="352" y="558"/>
                        </a:cubicBezTo>
                        <a:cubicBezTo>
                          <a:pt x="368" y="510"/>
                          <a:pt x="368" y="376"/>
                          <a:pt x="352" y="318"/>
                        </a:cubicBezTo>
                        <a:cubicBezTo>
                          <a:pt x="336" y="260"/>
                          <a:pt x="270" y="220"/>
                          <a:pt x="253" y="210"/>
                        </a:cubicBezTo>
                        <a:cubicBezTo>
                          <a:pt x="236" y="200"/>
                          <a:pt x="259" y="240"/>
                          <a:pt x="250" y="261"/>
                        </a:cubicBezTo>
                        <a:cubicBezTo>
                          <a:pt x="241" y="282"/>
                          <a:pt x="223" y="318"/>
                          <a:pt x="196" y="336"/>
                        </a:cubicBezTo>
                        <a:cubicBezTo>
                          <a:pt x="169" y="354"/>
                          <a:pt x="116" y="367"/>
                          <a:pt x="85" y="369"/>
                        </a:cubicBezTo>
                        <a:cubicBezTo>
                          <a:pt x="54" y="371"/>
                          <a:pt x="20" y="359"/>
                          <a:pt x="10" y="348"/>
                        </a:cubicBezTo>
                        <a:cubicBezTo>
                          <a:pt x="0" y="337"/>
                          <a:pt x="16" y="324"/>
                          <a:pt x="25" y="303"/>
                        </a:cubicBezTo>
                        <a:cubicBezTo>
                          <a:pt x="34" y="282"/>
                          <a:pt x="42" y="243"/>
                          <a:pt x="64" y="222"/>
                        </a:cubicBezTo>
                        <a:cubicBezTo>
                          <a:pt x="86" y="201"/>
                          <a:pt x="128" y="182"/>
                          <a:pt x="160" y="174"/>
                        </a:cubicBezTo>
                        <a:cubicBezTo>
                          <a:pt x="192" y="166"/>
                          <a:pt x="224" y="166"/>
                          <a:pt x="256" y="174"/>
                        </a:cubicBezTo>
                        <a:cubicBezTo>
                          <a:pt x="288" y="182"/>
                          <a:pt x="331" y="228"/>
                          <a:pt x="352" y="222"/>
                        </a:cubicBezTo>
                        <a:cubicBezTo>
                          <a:pt x="373" y="216"/>
                          <a:pt x="374" y="161"/>
                          <a:pt x="385" y="138"/>
                        </a:cubicBezTo>
                        <a:cubicBezTo>
                          <a:pt x="396" y="115"/>
                          <a:pt x="403" y="105"/>
                          <a:pt x="421" y="84"/>
                        </a:cubicBezTo>
                        <a:cubicBezTo>
                          <a:pt x="439" y="63"/>
                          <a:pt x="468" y="24"/>
                          <a:pt x="496" y="12"/>
                        </a:cubicBezTo>
                        <a:cubicBezTo>
                          <a:pt x="524" y="0"/>
                          <a:pt x="565" y="6"/>
                          <a:pt x="589" y="12"/>
                        </a:cubicBezTo>
                        <a:cubicBezTo>
                          <a:pt x="613" y="18"/>
                          <a:pt x="624" y="31"/>
                          <a:pt x="640" y="48"/>
                        </a:cubicBezTo>
                        <a:cubicBezTo>
                          <a:pt x="656" y="65"/>
                          <a:pt x="689" y="97"/>
                          <a:pt x="688" y="114"/>
                        </a:cubicBezTo>
                        <a:cubicBezTo>
                          <a:pt x="687" y="131"/>
                          <a:pt x="659" y="146"/>
                          <a:pt x="631" y="153"/>
                        </a:cubicBezTo>
                        <a:cubicBezTo>
                          <a:pt x="603" y="160"/>
                          <a:pt x="550" y="161"/>
                          <a:pt x="517" y="156"/>
                        </a:cubicBezTo>
                        <a:cubicBezTo>
                          <a:pt x="484" y="151"/>
                          <a:pt x="453" y="110"/>
                          <a:pt x="433" y="120"/>
                        </a:cubicBezTo>
                        <a:cubicBezTo>
                          <a:pt x="413" y="130"/>
                          <a:pt x="404" y="184"/>
                          <a:pt x="397" y="216"/>
                        </a:cubicBezTo>
                        <a:cubicBezTo>
                          <a:pt x="390" y="248"/>
                          <a:pt x="388" y="282"/>
                          <a:pt x="388" y="315"/>
                        </a:cubicBezTo>
                        <a:cubicBezTo>
                          <a:pt x="388" y="348"/>
                          <a:pt x="390" y="374"/>
                          <a:pt x="400" y="414"/>
                        </a:cubicBezTo>
                        <a:cubicBezTo>
                          <a:pt x="410" y="454"/>
                          <a:pt x="424" y="526"/>
                          <a:pt x="448" y="558"/>
                        </a:cubicBezTo>
                        <a:cubicBezTo>
                          <a:pt x="472" y="590"/>
                          <a:pt x="576" y="598"/>
                          <a:pt x="544" y="606"/>
                        </a:cubicBezTo>
                        <a:cubicBezTo>
                          <a:pt x="512" y="614"/>
                          <a:pt x="316" y="606"/>
                          <a:pt x="256" y="606"/>
                        </a:cubicBezTo>
                      </a:path>
                    </a:pathLst>
                  </a:custGeom>
                  <a:solidFill>
                    <a:srgbClr val="009900"/>
                  </a:solidFill>
                  <a:ln w="93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582960" y="5565600"/>
                    <a:ext cx="768240" cy="889200"/>
                  </a:xfrm>
                  <a:custGeom>
                    <a:avLst/>
                    <a:gdLst/>
                    <a:ahLst/>
                    <a:rect l="l" t="t" r="r" b="b"/>
                    <a:pathLst>
                      <a:path w="484" h="560">
                        <a:moveTo>
                          <a:pt x="52" y="528"/>
                        </a:moveTo>
                        <a:lnTo>
                          <a:pt x="68" y="344"/>
                        </a:lnTo>
                        <a:lnTo>
                          <a:pt x="0" y="340"/>
                        </a:lnTo>
                        <a:lnTo>
                          <a:pt x="72" y="324"/>
                        </a:lnTo>
                        <a:lnTo>
                          <a:pt x="88" y="436"/>
                        </a:lnTo>
                        <a:lnTo>
                          <a:pt x="124" y="336"/>
                        </a:lnTo>
                        <a:lnTo>
                          <a:pt x="100" y="180"/>
                        </a:lnTo>
                        <a:lnTo>
                          <a:pt x="152" y="300"/>
                        </a:lnTo>
                        <a:lnTo>
                          <a:pt x="116" y="432"/>
                        </a:lnTo>
                        <a:lnTo>
                          <a:pt x="212" y="124"/>
                        </a:lnTo>
                        <a:lnTo>
                          <a:pt x="220" y="0"/>
                        </a:lnTo>
                        <a:lnTo>
                          <a:pt x="228" y="60"/>
                        </a:lnTo>
                        <a:lnTo>
                          <a:pt x="192" y="224"/>
                        </a:lnTo>
                        <a:lnTo>
                          <a:pt x="156" y="388"/>
                        </a:lnTo>
                        <a:lnTo>
                          <a:pt x="228" y="216"/>
                        </a:lnTo>
                        <a:lnTo>
                          <a:pt x="344" y="224"/>
                        </a:lnTo>
                        <a:lnTo>
                          <a:pt x="252" y="244"/>
                        </a:lnTo>
                        <a:lnTo>
                          <a:pt x="208" y="372"/>
                        </a:lnTo>
                        <a:lnTo>
                          <a:pt x="156" y="544"/>
                        </a:lnTo>
                        <a:lnTo>
                          <a:pt x="256" y="352"/>
                        </a:lnTo>
                        <a:lnTo>
                          <a:pt x="244" y="512"/>
                        </a:lnTo>
                        <a:lnTo>
                          <a:pt x="288" y="304"/>
                        </a:lnTo>
                        <a:lnTo>
                          <a:pt x="320" y="524"/>
                        </a:lnTo>
                        <a:lnTo>
                          <a:pt x="356" y="240"/>
                        </a:lnTo>
                        <a:lnTo>
                          <a:pt x="364" y="92"/>
                        </a:lnTo>
                        <a:lnTo>
                          <a:pt x="388" y="200"/>
                        </a:lnTo>
                        <a:lnTo>
                          <a:pt x="360" y="432"/>
                        </a:lnTo>
                        <a:lnTo>
                          <a:pt x="356" y="516"/>
                        </a:lnTo>
                        <a:lnTo>
                          <a:pt x="440" y="396"/>
                        </a:lnTo>
                        <a:lnTo>
                          <a:pt x="380" y="344"/>
                        </a:lnTo>
                        <a:lnTo>
                          <a:pt x="464" y="404"/>
                        </a:lnTo>
                        <a:lnTo>
                          <a:pt x="400" y="524"/>
                        </a:lnTo>
                        <a:lnTo>
                          <a:pt x="452" y="456"/>
                        </a:lnTo>
                        <a:lnTo>
                          <a:pt x="484" y="560"/>
                        </a:lnTo>
                        <a:lnTo>
                          <a:pt x="160" y="556"/>
                        </a:lnTo>
                        <a:lnTo>
                          <a:pt x="36" y="548"/>
                        </a:lnTo>
                        <a:lnTo>
                          <a:pt x="52" y="528"/>
                        </a:lnTo>
                        <a:close/>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7" name=""/>
                  <p:cNvGrpSpPr/>
                  <p:nvPr/>
                </p:nvGrpSpPr>
                <p:grpSpPr>
                  <a:xfrm>
                    <a:off x="5536800" y="5871960"/>
                    <a:ext cx="867960" cy="623880"/>
                    <a:chOff x="5536800" y="5871960"/>
                    <a:chExt cx="867960" cy="623880"/>
                  </a:xfrm>
                </p:grpSpPr>
                <p:sp>
                  <p:nvSpPr>
                    <p:cNvPr id="248" name=""/>
                    <p:cNvSpPr/>
                    <p:nvPr/>
                  </p:nvSpPr>
                  <p:spPr>
                    <a:xfrm>
                      <a:off x="5859000" y="5871960"/>
                      <a:ext cx="545760" cy="374760"/>
                    </a:xfrm>
                    <a:custGeom>
                      <a:avLst/>
                      <a:gdLst/>
                      <a:ahLst/>
                      <a:rect l="l" t="t" r="r" b="b"/>
                      <a:pathLst>
                        <a:path w="494" h="338">
                          <a:moveTo>
                            <a:pt x="16" y="124"/>
                          </a:moveTo>
                          <a:lnTo>
                            <a:pt x="0" y="62"/>
                          </a:lnTo>
                          <a:lnTo>
                            <a:pt x="20" y="68"/>
                          </a:lnTo>
                          <a:lnTo>
                            <a:pt x="28" y="0"/>
                          </a:lnTo>
                          <a:lnTo>
                            <a:pt x="114" y="22"/>
                          </a:lnTo>
                          <a:lnTo>
                            <a:pt x="116" y="0"/>
                          </a:lnTo>
                          <a:lnTo>
                            <a:pt x="174" y="48"/>
                          </a:lnTo>
                          <a:lnTo>
                            <a:pt x="190" y="38"/>
                          </a:lnTo>
                          <a:lnTo>
                            <a:pt x="212" y="96"/>
                          </a:lnTo>
                          <a:lnTo>
                            <a:pt x="226" y="86"/>
                          </a:lnTo>
                          <a:lnTo>
                            <a:pt x="228" y="136"/>
                          </a:lnTo>
                          <a:lnTo>
                            <a:pt x="318" y="112"/>
                          </a:lnTo>
                          <a:lnTo>
                            <a:pt x="308" y="138"/>
                          </a:lnTo>
                          <a:lnTo>
                            <a:pt x="396" y="128"/>
                          </a:lnTo>
                          <a:lnTo>
                            <a:pt x="376" y="152"/>
                          </a:lnTo>
                          <a:lnTo>
                            <a:pt x="494" y="164"/>
                          </a:lnTo>
                          <a:lnTo>
                            <a:pt x="452" y="188"/>
                          </a:lnTo>
                          <a:lnTo>
                            <a:pt x="476" y="196"/>
                          </a:lnTo>
                          <a:lnTo>
                            <a:pt x="430" y="236"/>
                          </a:lnTo>
                          <a:lnTo>
                            <a:pt x="456" y="234"/>
                          </a:lnTo>
                          <a:lnTo>
                            <a:pt x="382" y="276"/>
                          </a:lnTo>
                          <a:lnTo>
                            <a:pt x="408" y="294"/>
                          </a:lnTo>
                          <a:lnTo>
                            <a:pt x="318" y="318"/>
                          </a:lnTo>
                          <a:lnTo>
                            <a:pt x="328" y="334"/>
                          </a:lnTo>
                          <a:lnTo>
                            <a:pt x="230" y="338"/>
                          </a:lnTo>
                          <a:lnTo>
                            <a:pt x="160" y="268"/>
                          </a:lnTo>
                          <a:lnTo>
                            <a:pt x="66" y="194"/>
                          </a:lnTo>
                          <a:lnTo>
                            <a:pt x="24" y="156"/>
                          </a:lnTo>
                          <a:lnTo>
                            <a:pt x="22" y="112"/>
                          </a:lnTo>
                          <a:lnTo>
                            <a:pt x="6" y="102"/>
                          </a:lnTo>
                        </a:path>
                      </a:pathLst>
                    </a:custGeom>
                    <a:solidFill>
                      <a:srgbClr val="006600"/>
                    </a:soli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rot="20796000">
                      <a:off x="5727240" y="6123240"/>
                      <a:ext cx="396720" cy="330840"/>
                    </a:xfrm>
                    <a:custGeom>
                      <a:avLst/>
                      <a:gdLst/>
                      <a:ahLst/>
                      <a:rect l="l" t="t" r="r" b="b"/>
                      <a:pathLst>
                        <a:path w="359" h="299">
                          <a:moveTo>
                            <a:pt x="325" y="62"/>
                          </a:moveTo>
                          <a:cubicBezTo>
                            <a:pt x="321" y="59"/>
                            <a:pt x="294" y="40"/>
                            <a:pt x="297" y="46"/>
                          </a:cubicBezTo>
                          <a:cubicBezTo>
                            <a:pt x="300" y="52"/>
                            <a:pt x="336" y="72"/>
                            <a:pt x="343" y="98"/>
                          </a:cubicBezTo>
                          <a:cubicBezTo>
                            <a:pt x="350" y="124"/>
                            <a:pt x="359" y="175"/>
                            <a:pt x="341" y="204"/>
                          </a:cubicBezTo>
                          <a:cubicBezTo>
                            <a:pt x="323" y="233"/>
                            <a:pt x="275" y="254"/>
                            <a:pt x="237" y="270"/>
                          </a:cubicBezTo>
                          <a:cubicBezTo>
                            <a:pt x="199" y="286"/>
                            <a:pt x="143" y="297"/>
                            <a:pt x="111" y="298"/>
                          </a:cubicBezTo>
                          <a:cubicBezTo>
                            <a:pt x="79" y="299"/>
                            <a:pt x="60" y="288"/>
                            <a:pt x="43" y="274"/>
                          </a:cubicBezTo>
                          <a:cubicBezTo>
                            <a:pt x="26" y="260"/>
                            <a:pt x="0" y="239"/>
                            <a:pt x="7" y="212"/>
                          </a:cubicBezTo>
                          <a:cubicBezTo>
                            <a:pt x="14" y="185"/>
                            <a:pt x="63" y="143"/>
                            <a:pt x="87" y="110"/>
                          </a:cubicBezTo>
                          <a:cubicBezTo>
                            <a:pt x="111" y="77"/>
                            <a:pt x="118" y="28"/>
                            <a:pt x="149" y="14"/>
                          </a:cubicBezTo>
                          <a:cubicBezTo>
                            <a:pt x="180" y="0"/>
                            <a:pt x="241" y="12"/>
                            <a:pt x="271" y="24"/>
                          </a:cubicBezTo>
                          <a:cubicBezTo>
                            <a:pt x="301" y="36"/>
                            <a:pt x="315" y="72"/>
                            <a:pt x="327" y="88"/>
                          </a:cubicBezTo>
                          <a:cubicBezTo>
                            <a:pt x="339" y="104"/>
                            <a:pt x="342" y="115"/>
                            <a:pt x="345" y="120"/>
                          </a:cubicBez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5536800" y="6042240"/>
                      <a:ext cx="469440" cy="280440"/>
                    </a:xfrm>
                    <a:custGeom>
                      <a:avLst/>
                      <a:gdLst/>
                      <a:ahLst/>
                      <a:rect l="l" t="t" r="r" b="b"/>
                      <a:pathLst>
                        <a:path w="271" h="162">
                          <a:moveTo>
                            <a:pt x="163" y="143"/>
                          </a:moveTo>
                          <a:cubicBezTo>
                            <a:pt x="150" y="150"/>
                            <a:pt x="119" y="162"/>
                            <a:pt x="98" y="162"/>
                          </a:cubicBezTo>
                          <a:cubicBezTo>
                            <a:pt x="77" y="162"/>
                            <a:pt x="52" y="155"/>
                            <a:pt x="36" y="145"/>
                          </a:cubicBezTo>
                          <a:cubicBezTo>
                            <a:pt x="19" y="135"/>
                            <a:pt x="0" y="117"/>
                            <a:pt x="0" y="104"/>
                          </a:cubicBezTo>
                          <a:cubicBezTo>
                            <a:pt x="1" y="90"/>
                            <a:pt x="26" y="79"/>
                            <a:pt x="40" y="65"/>
                          </a:cubicBezTo>
                          <a:cubicBezTo>
                            <a:pt x="53" y="52"/>
                            <a:pt x="62" y="34"/>
                            <a:pt x="81" y="24"/>
                          </a:cubicBezTo>
                          <a:cubicBezTo>
                            <a:pt x="99" y="13"/>
                            <a:pt x="129" y="2"/>
                            <a:pt x="153" y="1"/>
                          </a:cubicBezTo>
                          <a:cubicBezTo>
                            <a:pt x="176" y="0"/>
                            <a:pt x="202" y="4"/>
                            <a:pt x="219" y="12"/>
                          </a:cubicBezTo>
                          <a:cubicBezTo>
                            <a:pt x="236" y="21"/>
                            <a:pt x="245" y="40"/>
                            <a:pt x="253" y="51"/>
                          </a:cubicBezTo>
                          <a:cubicBezTo>
                            <a:pt x="260" y="63"/>
                            <a:pt x="271" y="76"/>
                            <a:pt x="266" y="82"/>
                          </a:cubicBezTo>
                          <a:cubicBezTo>
                            <a:pt x="260" y="88"/>
                            <a:pt x="232" y="82"/>
                            <a:pt x="222" y="87"/>
                          </a:cubicBezTo>
                          <a:cubicBezTo>
                            <a:pt x="212" y="92"/>
                            <a:pt x="211" y="106"/>
                            <a:pt x="208" y="113"/>
                          </a:cubicBezTo>
                          <a:cubicBezTo>
                            <a:pt x="205" y="120"/>
                            <a:pt x="213" y="126"/>
                            <a:pt x="205" y="131"/>
                          </a:cubicBezTo>
                          <a:cubicBezTo>
                            <a:pt x="197" y="136"/>
                            <a:pt x="172" y="141"/>
                            <a:pt x="163" y="143"/>
                          </a:cubicBezTo>
                          <a:close/>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7607880" y="5756040"/>
                    <a:ext cx="825840" cy="698400"/>
                    <a:chOff x="7607880" y="5756040"/>
                    <a:chExt cx="825840" cy="698400"/>
                  </a:xfrm>
                </p:grpSpPr>
                <p:sp>
                  <p:nvSpPr>
                    <p:cNvPr id="252" name=""/>
                    <p:cNvSpPr/>
                    <p:nvPr/>
                  </p:nvSpPr>
                  <p:spPr>
                    <a:xfrm>
                      <a:off x="7895520" y="6149880"/>
                      <a:ext cx="304920" cy="30456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713000" y="5792400"/>
                      <a:ext cx="219240" cy="281160"/>
                    </a:xfrm>
                    <a:custGeom>
                      <a:avLst/>
                      <a:gdLst/>
                      <a:ahLst/>
                      <a:rect l="l" t="t" r="r" b="b"/>
                      <a:pathLst>
                        <a:path w="138" h="196">
                          <a:moveTo>
                            <a:pt x="0" y="0"/>
                          </a:moveTo>
                          <a:cubicBezTo>
                            <a:pt x="18" y="6"/>
                            <a:pt x="37" y="13"/>
                            <a:pt x="58" y="28"/>
                          </a:cubicBezTo>
                          <a:cubicBezTo>
                            <a:pt x="79" y="43"/>
                            <a:pt x="114" y="64"/>
                            <a:pt x="126" y="88"/>
                          </a:cubicBezTo>
                          <a:cubicBezTo>
                            <a:pt x="138" y="112"/>
                            <a:pt x="133" y="154"/>
                            <a:pt x="132" y="172"/>
                          </a:cubicBezTo>
                          <a:cubicBezTo>
                            <a:pt x="131" y="190"/>
                            <a:pt x="124" y="193"/>
                            <a:pt x="118" y="196"/>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7716240" y="5790960"/>
                      <a:ext cx="362160" cy="446040"/>
                    </a:xfrm>
                    <a:custGeom>
                      <a:avLst/>
                      <a:gdLst/>
                      <a:ahLst/>
                      <a:rect l="l" t="t" r="r" b="b"/>
                      <a:pathLst>
                        <a:path w="228" h="312">
                          <a:moveTo>
                            <a:pt x="0" y="0"/>
                          </a:moveTo>
                          <a:cubicBezTo>
                            <a:pt x="49" y="14"/>
                            <a:pt x="98" y="28"/>
                            <a:pt x="132" y="54"/>
                          </a:cubicBezTo>
                          <a:cubicBezTo>
                            <a:pt x="166" y="80"/>
                            <a:pt x="187" y="121"/>
                            <a:pt x="202" y="156"/>
                          </a:cubicBezTo>
                          <a:cubicBezTo>
                            <a:pt x="217" y="191"/>
                            <a:pt x="220" y="236"/>
                            <a:pt x="224" y="262"/>
                          </a:cubicBezTo>
                          <a:cubicBezTo>
                            <a:pt x="228" y="288"/>
                            <a:pt x="227" y="300"/>
                            <a:pt x="226" y="312"/>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7725960" y="5756040"/>
                      <a:ext cx="517320" cy="274680"/>
                    </a:xfrm>
                    <a:custGeom>
                      <a:avLst/>
                      <a:gdLst/>
                      <a:ahLst/>
                      <a:rect l="l" t="t" r="r" b="b"/>
                      <a:pathLst>
                        <a:path w="326" h="192">
                          <a:moveTo>
                            <a:pt x="0" y="18"/>
                          </a:moveTo>
                          <a:cubicBezTo>
                            <a:pt x="29" y="9"/>
                            <a:pt x="58" y="0"/>
                            <a:pt x="96" y="8"/>
                          </a:cubicBezTo>
                          <a:cubicBezTo>
                            <a:pt x="134" y="16"/>
                            <a:pt x="196" y="44"/>
                            <a:pt x="230" y="68"/>
                          </a:cubicBezTo>
                          <a:cubicBezTo>
                            <a:pt x="264" y="92"/>
                            <a:pt x="284" y="131"/>
                            <a:pt x="300" y="152"/>
                          </a:cubicBezTo>
                          <a:cubicBezTo>
                            <a:pt x="316" y="173"/>
                            <a:pt x="321" y="182"/>
                            <a:pt x="326" y="192"/>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rot="2497800">
                      <a:off x="7660440" y="6038280"/>
                      <a:ext cx="304560" cy="27468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129160" y="6016320"/>
                      <a:ext cx="304560" cy="274680"/>
                    </a:xfrm>
                    <a:prstGeom prst="ellipse">
                      <a:avLst/>
                    </a:prstGeom>
                    <a:solidFill>
                      <a:srgbClr val="0000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8" name=""/>
                  <p:cNvGrpSpPr/>
                  <p:nvPr/>
                </p:nvGrpSpPr>
                <p:grpSpPr>
                  <a:xfrm>
                    <a:off x="4412880" y="5722920"/>
                    <a:ext cx="812520" cy="731520"/>
                    <a:chOff x="4412880" y="5722920"/>
                    <a:chExt cx="812520" cy="731520"/>
                  </a:xfrm>
                </p:grpSpPr>
                <p:sp>
                  <p:nvSpPr>
                    <p:cNvPr id="259" name=""/>
                    <p:cNvSpPr/>
                    <p:nvPr/>
                  </p:nvSpPr>
                  <p:spPr>
                    <a:xfrm>
                      <a:off x="4894560" y="6029640"/>
                      <a:ext cx="330840" cy="299520"/>
                    </a:xfrm>
                    <a:custGeom>
                      <a:avLst/>
                      <a:gdLst/>
                      <a:ahLst/>
                      <a:rect l="l" t="t" r="r" b="b"/>
                      <a:pathLst>
                        <a:path w="415" h="374">
                          <a:moveTo>
                            <a:pt x="0" y="252"/>
                          </a:moveTo>
                          <a:cubicBezTo>
                            <a:pt x="21" y="294"/>
                            <a:pt x="43" y="336"/>
                            <a:pt x="96" y="354"/>
                          </a:cubicBezTo>
                          <a:cubicBezTo>
                            <a:pt x="149" y="372"/>
                            <a:pt x="266" y="374"/>
                            <a:pt x="318" y="360"/>
                          </a:cubicBezTo>
                          <a:cubicBezTo>
                            <a:pt x="370" y="346"/>
                            <a:pt x="401" y="313"/>
                            <a:pt x="408" y="270"/>
                          </a:cubicBezTo>
                          <a:cubicBezTo>
                            <a:pt x="415" y="227"/>
                            <a:pt x="385" y="142"/>
                            <a:pt x="360" y="102"/>
                          </a:cubicBezTo>
                          <a:cubicBezTo>
                            <a:pt x="335" y="62"/>
                            <a:pt x="285" y="47"/>
                            <a:pt x="258" y="30"/>
                          </a:cubicBezTo>
                          <a:cubicBezTo>
                            <a:pt x="231" y="13"/>
                            <a:pt x="214" y="6"/>
                            <a:pt x="198" y="0"/>
                          </a:cubicBezTo>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rot="2335200">
                      <a:off x="4890240" y="5996520"/>
                      <a:ext cx="178200" cy="277920"/>
                    </a:xfrm>
                    <a:prstGeom prst="ellipse">
                      <a:avLst/>
                    </a:prstGeom>
                    <a:solidFill>
                      <a:srgbClr val="6633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412880" y="6025320"/>
                      <a:ext cx="401760" cy="429120"/>
                    </a:xfrm>
                    <a:custGeom>
                      <a:avLst/>
                      <a:gdLst/>
                      <a:ahLst/>
                      <a:rect l="l" t="t" r="r" b="b"/>
                      <a:pathLst>
                        <a:path w="504" h="538">
                          <a:moveTo>
                            <a:pt x="165" y="18"/>
                          </a:moveTo>
                          <a:cubicBezTo>
                            <a:pt x="151" y="36"/>
                            <a:pt x="52" y="99"/>
                            <a:pt x="27" y="144"/>
                          </a:cubicBezTo>
                          <a:cubicBezTo>
                            <a:pt x="2" y="189"/>
                            <a:pt x="17" y="243"/>
                            <a:pt x="15" y="288"/>
                          </a:cubicBezTo>
                          <a:cubicBezTo>
                            <a:pt x="13" y="333"/>
                            <a:pt x="0" y="375"/>
                            <a:pt x="15" y="414"/>
                          </a:cubicBezTo>
                          <a:cubicBezTo>
                            <a:pt x="30" y="453"/>
                            <a:pt x="63" y="506"/>
                            <a:pt x="105" y="522"/>
                          </a:cubicBezTo>
                          <a:cubicBezTo>
                            <a:pt x="147" y="538"/>
                            <a:pt x="210" y="528"/>
                            <a:pt x="267" y="510"/>
                          </a:cubicBezTo>
                          <a:cubicBezTo>
                            <a:pt x="324" y="492"/>
                            <a:pt x="414" y="456"/>
                            <a:pt x="447" y="414"/>
                          </a:cubicBezTo>
                          <a:cubicBezTo>
                            <a:pt x="480" y="372"/>
                            <a:pt x="504" y="309"/>
                            <a:pt x="465" y="258"/>
                          </a:cubicBezTo>
                          <a:cubicBezTo>
                            <a:pt x="426" y="207"/>
                            <a:pt x="272" y="145"/>
                            <a:pt x="213" y="108"/>
                          </a:cubicBezTo>
                          <a:cubicBezTo>
                            <a:pt x="154" y="71"/>
                            <a:pt x="118" y="52"/>
                            <a:pt x="111" y="36"/>
                          </a:cubicBezTo>
                          <a:cubicBezTo>
                            <a:pt x="104" y="20"/>
                            <a:pt x="179" y="0"/>
                            <a:pt x="165" y="18"/>
                          </a:cubicBezTo>
                          <a:close/>
                        </a:path>
                      </a:pathLst>
                    </a:custGeom>
                    <a:solidFill>
                      <a:srgbClr val="996633"/>
                    </a:solidFill>
                    <a:ln w="9360">
                      <a:solidFill>
                        <a:srgbClr val="9966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rot="1452000">
                      <a:off x="4444200" y="6036120"/>
                      <a:ext cx="406080" cy="225360"/>
                    </a:xfrm>
                    <a:prstGeom prst="ellipse">
                      <a:avLst/>
                    </a:prstGeom>
                    <a:solidFill>
                      <a:srgbClr val="663300"/>
                    </a:solidFill>
                    <a:ln w="936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659120" y="5722920"/>
                      <a:ext cx="296640" cy="383400"/>
                    </a:xfrm>
                    <a:custGeom>
                      <a:avLst/>
                      <a:gdLst/>
                      <a:ahLst/>
                      <a:rect l="l" t="t" r="r" b="b"/>
                      <a:pathLst>
                        <a:path w="372" h="481">
                          <a:moveTo>
                            <a:pt x="0" y="462"/>
                          </a:moveTo>
                          <a:cubicBezTo>
                            <a:pt x="61" y="412"/>
                            <a:pt x="123" y="363"/>
                            <a:pt x="168" y="300"/>
                          </a:cubicBezTo>
                          <a:cubicBezTo>
                            <a:pt x="213" y="237"/>
                            <a:pt x="253" y="134"/>
                            <a:pt x="270" y="84"/>
                          </a:cubicBezTo>
                          <a:cubicBezTo>
                            <a:pt x="287" y="34"/>
                            <a:pt x="276" y="0"/>
                            <a:pt x="270" y="0"/>
                          </a:cubicBezTo>
                          <a:cubicBezTo>
                            <a:pt x="264" y="0"/>
                            <a:pt x="240" y="35"/>
                            <a:pt x="234" y="84"/>
                          </a:cubicBezTo>
                          <a:cubicBezTo>
                            <a:pt x="228" y="133"/>
                            <a:pt x="227" y="233"/>
                            <a:pt x="234" y="294"/>
                          </a:cubicBezTo>
                          <a:cubicBezTo>
                            <a:pt x="241" y="355"/>
                            <a:pt x="253" y="419"/>
                            <a:pt x="276" y="450"/>
                          </a:cubicBezTo>
                          <a:cubicBezTo>
                            <a:pt x="299" y="481"/>
                            <a:pt x="335" y="480"/>
                            <a:pt x="372" y="480"/>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4" name=""/>
              <p:cNvGrpSpPr/>
              <p:nvPr/>
            </p:nvGrpSpPr>
            <p:grpSpPr>
              <a:xfrm>
                <a:off x="5540400" y="1512720"/>
                <a:ext cx="655560" cy="1316520"/>
                <a:chOff x="5540400" y="1512720"/>
                <a:chExt cx="655560" cy="1316520"/>
              </a:xfrm>
            </p:grpSpPr>
            <p:sp>
              <p:nvSpPr>
                <p:cNvPr id="265" name=""/>
                <p:cNvSpPr/>
                <p:nvPr/>
              </p:nvSpPr>
              <p:spPr>
                <a:xfrm>
                  <a:off x="5724360" y="1512720"/>
                  <a:ext cx="288720" cy="350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6" name=""/>
                <p:cNvGrpSpPr/>
                <p:nvPr/>
              </p:nvGrpSpPr>
              <p:grpSpPr>
                <a:xfrm>
                  <a:off x="5540400" y="1848240"/>
                  <a:ext cx="655560" cy="981000"/>
                  <a:chOff x="5540400" y="1848240"/>
                  <a:chExt cx="655560" cy="981000"/>
                </a:xfrm>
              </p:grpSpPr>
              <p:sp>
                <p:nvSpPr>
                  <p:cNvPr id="267" name=""/>
                  <p:cNvSpPr/>
                  <p:nvPr/>
                </p:nvSpPr>
                <p:spPr>
                  <a:xfrm>
                    <a:off x="5689800" y="1852920"/>
                    <a:ext cx="357840" cy="470520"/>
                  </a:xfrm>
                  <a:custGeom>
                    <a:avLst/>
                    <a:gdLst>
                      <a:gd name="textAreaLeft" fmla="*/ 17280 w 357840"/>
                      <a:gd name="textAreaRight" fmla="*/ 340560 w 357840"/>
                      <a:gd name="textAreaTop" fmla="*/ 17280 h 470520"/>
                      <a:gd name="textAreaBottom" fmla="*/ 453240 h 470520"/>
                    </a:gdLst>
                    <a:ahLst/>
                    <a:rect l="textAreaLeft" t="textAreaTop" r="textAreaRight" b="textAreaBottom"/>
                    <a:pathLst>
                      <a:path w="21600" h="28395">
                        <a:moveTo>
                          <a:pt x="3600" y="0"/>
                        </a:moveTo>
                        <a:arcTo wR="3600" hR="3600" stAng="16200000" swAng="-5400000"/>
                        <a:lnTo>
                          <a:pt x="0" y="24795"/>
                        </a:lnTo>
                        <a:arcTo wR="3600" hR="3600" stAng="10800000" swAng="-5400000"/>
                        <a:lnTo>
                          <a:pt x="18000" y="28395"/>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908680" y="2323440"/>
                    <a:ext cx="138960" cy="505800"/>
                  </a:xfrm>
                  <a:custGeom>
                    <a:avLst/>
                    <a:gdLst>
                      <a:gd name="textAreaLeft" fmla="*/ 6480 w 138960"/>
                      <a:gd name="textAreaRight" fmla="*/ 132480 w 138960"/>
                      <a:gd name="textAreaTop" fmla="*/ 6480 h 505800"/>
                      <a:gd name="textAreaBottom" fmla="*/ 499320 h 505800"/>
                    </a:gdLst>
                    <a:ahLst/>
                    <a:rect l="textAreaLeft" t="textAreaTop" r="textAreaRight" b="textAreaBottom"/>
                    <a:pathLst>
                      <a:path w="21600" h="78474">
                        <a:moveTo>
                          <a:pt x="3600" y="0"/>
                        </a:moveTo>
                        <a:arcTo wR="3600" hR="3600" stAng="16200000" swAng="-5400000"/>
                        <a:lnTo>
                          <a:pt x="0" y="74874"/>
                        </a:lnTo>
                        <a:arcTo wR="3600" hR="3600" stAng="10800000" swAng="-5400000"/>
                        <a:lnTo>
                          <a:pt x="18000" y="7847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699520" y="2323440"/>
                    <a:ext cx="138960" cy="505800"/>
                  </a:xfrm>
                  <a:custGeom>
                    <a:avLst/>
                    <a:gdLst>
                      <a:gd name="textAreaLeft" fmla="*/ 6480 w 138960"/>
                      <a:gd name="textAreaRight" fmla="*/ 132480 w 138960"/>
                      <a:gd name="textAreaTop" fmla="*/ 6480 h 505800"/>
                      <a:gd name="textAreaBottom" fmla="*/ 499320 h 505800"/>
                    </a:gdLst>
                    <a:ahLst/>
                    <a:rect l="textAreaLeft" t="textAreaTop" r="textAreaRight" b="textAreaBottom"/>
                    <a:pathLst>
                      <a:path w="21600" h="78474">
                        <a:moveTo>
                          <a:pt x="3600" y="0"/>
                        </a:moveTo>
                        <a:arcTo wR="3600" hR="3600" stAng="16200000" swAng="-5400000"/>
                        <a:lnTo>
                          <a:pt x="0" y="74874"/>
                        </a:lnTo>
                        <a:arcTo wR="3600" hR="3600" stAng="10800000" swAng="-5400000"/>
                        <a:lnTo>
                          <a:pt x="18000" y="7847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rot="493200">
                    <a:off x="5570640" y="1852920"/>
                    <a:ext cx="99000" cy="430920"/>
                  </a:xfrm>
                  <a:custGeom>
                    <a:avLst/>
                    <a:gdLst>
                      <a:gd name="textAreaLeft" fmla="*/ 4680 w 99000"/>
                      <a:gd name="textAreaRight" fmla="*/ 94320 w 99000"/>
                      <a:gd name="textAreaTop" fmla="*/ 4680 h 430920"/>
                      <a:gd name="textAreaBottom" fmla="*/ 426240 h 430920"/>
                    </a:gdLst>
                    <a:ahLst/>
                    <a:rect l="textAreaLeft" t="textAreaTop" r="textAreaRight" b="textAreaBottom"/>
                    <a:pathLst>
                      <a:path w="21600" h="93757">
                        <a:moveTo>
                          <a:pt x="3600" y="0"/>
                        </a:moveTo>
                        <a:arcTo wR="3600" hR="3600" stAng="16200000" swAng="-5400000"/>
                        <a:lnTo>
                          <a:pt x="0" y="90157"/>
                        </a:lnTo>
                        <a:arcTo wR="3600" hR="3600" stAng="10800000" swAng="-5400000"/>
                        <a:lnTo>
                          <a:pt x="18000" y="93757"/>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flipH="1" rot="21106800">
                    <a:off x="6066720" y="1852920"/>
                    <a:ext cx="99000" cy="430920"/>
                  </a:xfrm>
                  <a:custGeom>
                    <a:avLst/>
                    <a:gdLst>
                      <a:gd name="textAreaLeft" fmla="*/ 4680 w 99000"/>
                      <a:gd name="textAreaRight" fmla="*/ 94320 w 99000"/>
                      <a:gd name="textAreaTop" fmla="*/ 4680 h 430920"/>
                      <a:gd name="textAreaBottom" fmla="*/ 426240 h 430920"/>
                    </a:gdLst>
                    <a:ahLst/>
                    <a:rect l="textAreaLeft" t="textAreaTop" r="textAreaRight" b="textAreaBottom"/>
                    <a:pathLst>
                      <a:path w="21600" h="93757">
                        <a:moveTo>
                          <a:pt x="3600" y="0"/>
                        </a:moveTo>
                        <a:arcTo wR="3600" hR="3600" stAng="16200000" swAng="-5400000"/>
                        <a:lnTo>
                          <a:pt x="0" y="90157"/>
                        </a:lnTo>
                        <a:arcTo wR="3600" hR="3600" stAng="10800000" swAng="-5400000"/>
                        <a:lnTo>
                          <a:pt x="18000" y="93757"/>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72" name=""/>
            <p:cNvGrpSpPr/>
            <p:nvPr/>
          </p:nvGrpSpPr>
          <p:grpSpPr>
            <a:xfrm>
              <a:off x="2819520" y="1117440"/>
              <a:ext cx="6121440" cy="5435640"/>
              <a:chOff x="2819520" y="1117440"/>
              <a:chExt cx="6121440" cy="5435640"/>
            </a:xfrm>
          </p:grpSpPr>
          <p:sp>
            <p:nvSpPr>
              <p:cNvPr id="273" name=""/>
              <p:cNvSpPr/>
              <p:nvPr/>
            </p:nvSpPr>
            <p:spPr>
              <a:xfrm>
                <a:off x="2819520" y="1117440"/>
                <a:ext cx="6121440" cy="5435640"/>
              </a:xfrm>
              <a:prstGeom prst="triangle">
                <a:avLst>
                  <a:gd name="adj" fmla="val 50000"/>
                </a:avLst>
              </a:prstGeom>
              <a:noFill/>
              <a:ln w="5724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390840" y="5511960"/>
                <a:ext cx="4991040" cy="0"/>
              </a:xfrm>
              <a:prstGeom prst="line">
                <a:avLst/>
              </a:prstGeom>
              <a:ln w="28440">
                <a:solidFill>
                  <a:srgbClr val="66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127400" y="4280040"/>
                <a:ext cx="3519720" cy="0"/>
              </a:xfrm>
              <a:prstGeom prst="line">
                <a:avLst/>
              </a:prstGeom>
              <a:ln w="28440">
                <a:solidFill>
                  <a:srgbClr val="66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851360" y="2921040"/>
                <a:ext cx="2057400" cy="0"/>
              </a:xfrm>
              <a:prstGeom prst="line">
                <a:avLst/>
              </a:prstGeom>
              <a:ln w="28440">
                <a:solidFill>
                  <a:srgbClr val="66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33480" y="171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TAKING NOTES</a:t>
            </a:r>
            <a:endParaRPr b="0" lang="en-US" sz="4400" spc="-1" strike="noStrike">
              <a:solidFill>
                <a:srgbClr val="003300"/>
              </a:solidFill>
              <a:latin typeface="Arial Black"/>
            </a:endParaRPr>
          </a:p>
        </p:txBody>
      </p:sp>
      <p:sp>
        <p:nvSpPr>
          <p:cNvPr id="94" name="PlaceHolder 2"/>
          <p:cNvSpPr>
            <a:spLocks noGrp="1"/>
          </p:cNvSpPr>
          <p:nvPr>
            <p:ph/>
          </p:nvPr>
        </p:nvSpPr>
        <p:spPr>
          <a:xfrm>
            <a:off x="995400" y="1257120"/>
            <a:ext cx="7772400" cy="560052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This PowerPoint accompanies the Energy Flow Activity.</a:t>
            </a:r>
            <a:endParaRPr b="0" lang="en-US" sz="3600" spc="-1" strike="noStrike">
              <a:solidFill>
                <a:srgbClr val="663300"/>
              </a:solidFill>
              <a:latin typeface="Arial"/>
            </a:endParaRPr>
          </a:p>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The “take notes” symbol represents information that is in the Energy Flow Activity.</a:t>
            </a:r>
            <a:endParaRPr b="0" lang="en-US" sz="3600" spc="-1" strike="noStrike">
              <a:solidFill>
                <a:srgbClr val="663300"/>
              </a:solidFill>
              <a:latin typeface="Arial"/>
            </a:endParaRPr>
          </a:p>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Not everything shown is to be taken as notes. Listen carefully to the teacher discussion. Check your Energy Flow Activity answers as needed.</a:t>
            </a:r>
            <a:endParaRPr b="0" lang="en-US" sz="3600" spc="-1" strike="noStrike">
              <a:solidFill>
                <a:srgbClr val="663300"/>
              </a:solidFill>
              <a:latin typeface="Arial"/>
            </a:endParaRPr>
          </a:p>
        </p:txBody>
      </p:sp>
      <p:sp>
        <p:nvSpPr>
          <p:cNvPr id="95" name=""/>
          <p:cNvSpPr/>
          <p:nvPr/>
        </p:nvSpPr>
        <p:spPr>
          <a:xfrm>
            <a:off x="480960" y="863640"/>
            <a:ext cx="8229600" cy="97164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pic>
        <p:nvPicPr>
          <p:cNvPr id="96" name="" descr=""/>
          <p:cNvPicPr/>
          <p:nvPr/>
        </p:nvPicPr>
        <p:blipFill>
          <a:blip r:embed="rId1"/>
          <a:stretch/>
        </p:blipFill>
        <p:spPr>
          <a:xfrm>
            <a:off x="7115040" y="2421000"/>
            <a:ext cx="804960" cy="48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00"/>
                </a:solidFill>
                <a:latin typeface="Arial Black"/>
              </a:rPr>
              <a:t>Introduction to ENERGY FLOW</a:t>
            </a:r>
            <a:endParaRPr b="0" lang="en-US" sz="5400" spc="-1" strike="noStrike">
              <a:solidFill>
                <a:srgbClr val="003300"/>
              </a:solidFill>
              <a:latin typeface="Arial Black"/>
            </a:endParaRPr>
          </a:p>
        </p:txBody>
      </p:sp>
      <p:sp>
        <p:nvSpPr>
          <p:cNvPr id="98" name="PlaceHolder 2"/>
          <p:cNvSpPr>
            <a:spLocks noGrp="1"/>
          </p:cNvSpPr>
          <p:nvPr>
            <p:ph type="subTitle"/>
          </p:nvPr>
        </p:nvSpPr>
        <p:spPr>
          <a:xfrm>
            <a:off x="1274400" y="2585520"/>
            <a:ext cx="7483320" cy="3148200"/>
          </a:xfrm>
          <a:prstGeom prst="rect">
            <a:avLst/>
          </a:prstGeom>
          <a:noFill/>
          <a:ln w="0">
            <a:noFill/>
          </a:ln>
        </p:spPr>
        <p:txBody>
          <a:bodyPr lIns="92160" rIns="92160" tIns="46080" bIns="46080" anchor="ctr">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3300"/>
                </a:solidFill>
                <a:latin typeface="Arial Black"/>
              </a:rPr>
              <a:t>PYRAMIDS</a:t>
            </a:r>
            <a:endParaRPr b="0" lang="en-US" sz="6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sun eclipse with palm</a:t>
            </a:r>
            <a:endParaRPr b="0" lang="en-US" sz="4400" spc="-1" strike="noStrike">
              <a:solidFill>
                <a:srgbClr val="003300"/>
              </a:solidFill>
              <a:latin typeface="Arial Black"/>
            </a:endParaRPr>
          </a:p>
        </p:txBody>
      </p:sp>
      <p:pic>
        <p:nvPicPr>
          <p:cNvPr id="100" name="" descr=""/>
          <p:cNvPicPr/>
          <p:nvPr/>
        </p:nvPicPr>
        <p:blipFill>
          <a:blip r:embed="rId1"/>
          <a:stretch/>
        </p:blipFill>
        <p:spPr>
          <a:xfrm>
            <a:off x="0" y="-76320"/>
            <a:ext cx="9223200" cy="7378920"/>
          </a:xfrm>
          <a:prstGeom prst="rect">
            <a:avLst/>
          </a:prstGeom>
          <a:ln w="0">
            <a:noFill/>
          </a:ln>
        </p:spPr>
      </p:pic>
      <p:sp>
        <p:nvSpPr>
          <p:cNvPr id="101" name="PlaceHolder 2"/>
          <p:cNvSpPr>
            <a:spLocks noGrp="1"/>
          </p:cNvSpPr>
          <p:nvPr>
            <p:ph type="subTitle"/>
          </p:nvPr>
        </p:nvSpPr>
        <p:spPr>
          <a:xfrm>
            <a:off x="0" y="-360"/>
            <a:ext cx="9144000" cy="1219320"/>
          </a:xfrm>
          <a:prstGeom prst="rect">
            <a:avLst/>
          </a:prstGeom>
          <a:noFill/>
          <a:ln w="0">
            <a:noFill/>
          </a:ln>
        </p:spPr>
        <p:txBody>
          <a:bodyPr lIns="92160" rIns="92160" tIns="46080" bIns="4608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Black"/>
              </a:rPr>
              <a:t>the ultimate energy source</a:t>
            </a:r>
            <a:endParaRPr b="0" lang="en-US" sz="3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348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03" name="PlaceHolder 2"/>
          <p:cNvSpPr>
            <a:spLocks noGrp="1"/>
          </p:cNvSpPr>
          <p:nvPr>
            <p:ph/>
          </p:nvPr>
        </p:nvSpPr>
        <p:spPr>
          <a:xfrm>
            <a:off x="995400" y="1790640"/>
            <a:ext cx="3581280" cy="40197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Instead of representing trophic levels in a food web, an ecological pyramid can be used.</a:t>
            </a:r>
            <a:endParaRPr b="0" lang="en-US" sz="3600" spc="-1" strike="noStrike">
              <a:solidFill>
                <a:srgbClr val="663300"/>
              </a:solidFill>
              <a:latin typeface="Arial"/>
            </a:endParaRPr>
          </a:p>
        </p:txBody>
      </p:sp>
      <p:pic>
        <p:nvPicPr>
          <p:cNvPr id="104" name="" descr=""/>
          <p:cNvPicPr/>
          <p:nvPr/>
        </p:nvPicPr>
        <p:blipFill>
          <a:blip r:embed="rId1"/>
          <a:stretch/>
        </p:blipFill>
        <p:spPr>
          <a:xfrm>
            <a:off x="4567320" y="1704960"/>
            <a:ext cx="4389480" cy="44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06" name="PlaceHolder 2"/>
          <p:cNvSpPr>
            <a:spLocks noGrp="1"/>
          </p:cNvSpPr>
          <p:nvPr>
            <p:ph/>
          </p:nvPr>
        </p:nvSpPr>
        <p:spPr>
          <a:xfrm>
            <a:off x="995040" y="987480"/>
            <a:ext cx="8148600" cy="12938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Does this pyramid represent a food chain or web?</a:t>
            </a:r>
            <a:endParaRPr b="0" lang="en-US" sz="3600" spc="-1" strike="noStrike">
              <a:solidFill>
                <a:srgbClr val="663300"/>
              </a:solidFill>
              <a:latin typeface="Arial"/>
            </a:endParaRPr>
          </a:p>
        </p:txBody>
      </p:sp>
      <p:sp>
        <p:nvSpPr>
          <p:cNvPr id="107" name="PlaceHolder 3"/>
          <p:cNvSpPr>
            <a:spLocks noGrp="1"/>
          </p:cNvSpPr>
          <p:nvPr>
            <p:ph/>
          </p:nvPr>
        </p:nvSpPr>
        <p:spPr>
          <a:xfrm>
            <a:off x="1122480" y="2585880"/>
            <a:ext cx="3249360" cy="325440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could this pyramid be changed to represent a food web?</a:t>
            </a:r>
            <a:endParaRPr b="0" lang="en-US" sz="3600" spc="-1" strike="noStrike">
              <a:solidFill>
                <a:srgbClr val="663300"/>
              </a:solidFill>
              <a:latin typeface="Arial"/>
            </a:endParaRPr>
          </a:p>
        </p:txBody>
      </p:sp>
      <p:pic>
        <p:nvPicPr>
          <p:cNvPr id="108" name="" descr=""/>
          <p:cNvPicPr/>
          <p:nvPr/>
        </p:nvPicPr>
        <p:blipFill>
          <a:blip r:embed="rId1"/>
          <a:stretch/>
        </p:blipFill>
        <p:spPr>
          <a:xfrm>
            <a:off x="4367160" y="2171880"/>
            <a:ext cx="4579920" cy="459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5256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10" name="PlaceHolder 2"/>
          <p:cNvSpPr>
            <a:spLocks noGrp="1"/>
          </p:cNvSpPr>
          <p:nvPr>
            <p:ph/>
          </p:nvPr>
        </p:nvSpPr>
        <p:spPr>
          <a:xfrm>
            <a:off x="1054080" y="2120400"/>
            <a:ext cx="3619440" cy="362916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do the big numbers represent?</a:t>
            </a:r>
            <a:endParaRPr b="0" lang="en-US" sz="3600" spc="-1" strike="noStrike">
              <a:solidFill>
                <a:srgbClr val="6633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00"/>
              </a:solidFill>
              <a:latin typeface="Arial"/>
            </a:endParaRPr>
          </a:p>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does the kcal mean?</a:t>
            </a:r>
            <a:endParaRPr b="0" lang="en-US" sz="3600" spc="-1" strike="noStrike">
              <a:solidFill>
                <a:srgbClr val="663300"/>
              </a:solidFill>
              <a:latin typeface="Arial"/>
            </a:endParaRPr>
          </a:p>
        </p:txBody>
      </p:sp>
      <p:pic>
        <p:nvPicPr>
          <p:cNvPr id="111" name="" descr=""/>
          <p:cNvPicPr/>
          <p:nvPr/>
        </p:nvPicPr>
        <p:blipFill>
          <a:blip r:embed="rId1"/>
          <a:stretch/>
        </p:blipFill>
        <p:spPr>
          <a:xfrm>
            <a:off x="4567320" y="1666800"/>
            <a:ext cx="4389480" cy="4400640"/>
          </a:xfrm>
          <a:prstGeom prst="rect">
            <a:avLst/>
          </a:prstGeom>
          <a:ln w="0">
            <a:noFill/>
          </a:ln>
        </p:spPr>
      </p:pic>
      <p:sp>
        <p:nvSpPr>
          <p:cNvPr id="112" name=""/>
          <p:cNvSpPr/>
          <p:nvPr/>
        </p:nvSpPr>
        <p:spPr>
          <a:xfrm>
            <a:off x="4270320" y="2957400"/>
            <a:ext cx="1600200" cy="1800"/>
          </a:xfrm>
          <a:prstGeom prst="line">
            <a:avLst/>
          </a:prstGeom>
          <a:ln w="5724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 name=""/>
          <p:cNvSpPr/>
          <p:nvPr/>
        </p:nvSpPr>
        <p:spPr>
          <a:xfrm>
            <a:off x="3990960" y="5083200"/>
            <a:ext cx="297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304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Pyramid of Energy</a:t>
            </a:r>
            <a:endParaRPr b="0" lang="en-US" sz="4400" spc="-1" strike="noStrike">
              <a:solidFill>
                <a:srgbClr val="003300"/>
              </a:solidFill>
              <a:latin typeface="Arial Black"/>
            </a:endParaRPr>
          </a:p>
        </p:txBody>
      </p:sp>
      <p:sp>
        <p:nvSpPr>
          <p:cNvPr id="115" name="PlaceHolder 2"/>
          <p:cNvSpPr>
            <a:spLocks noGrp="1"/>
          </p:cNvSpPr>
          <p:nvPr>
            <p:ph/>
          </p:nvPr>
        </p:nvSpPr>
        <p:spPr>
          <a:xfrm>
            <a:off x="1025640" y="1053720"/>
            <a:ext cx="7735680" cy="126540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happens to the energy as you go up?</a:t>
            </a:r>
            <a:endParaRPr b="0" lang="en-US" sz="3600" spc="-1" strike="noStrike">
              <a:solidFill>
                <a:srgbClr val="663300"/>
              </a:solidFill>
              <a:latin typeface="Arial"/>
            </a:endParaRPr>
          </a:p>
        </p:txBody>
      </p:sp>
      <p:sp>
        <p:nvSpPr>
          <p:cNvPr id="116" name="PlaceHolder 3"/>
          <p:cNvSpPr>
            <a:spLocks noGrp="1"/>
          </p:cNvSpPr>
          <p:nvPr>
            <p:ph/>
          </p:nvPr>
        </p:nvSpPr>
        <p:spPr>
          <a:xfrm>
            <a:off x="1028520" y="2408040"/>
            <a:ext cx="3455640" cy="435924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much energy is available for the next  level?</a:t>
            </a:r>
            <a:endParaRPr b="0" lang="en-US" sz="3600" spc="-1" strike="noStrike">
              <a:solidFill>
                <a:srgbClr val="663300"/>
              </a:solidFill>
              <a:latin typeface="Arial"/>
            </a:endParaRPr>
          </a:p>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type of pyramid is this?</a:t>
            </a:r>
            <a:endParaRPr b="0" lang="en-US" sz="3600" spc="-1" strike="noStrike">
              <a:solidFill>
                <a:srgbClr val="663300"/>
              </a:solidFill>
              <a:latin typeface="Arial"/>
            </a:endParaRPr>
          </a:p>
        </p:txBody>
      </p:sp>
      <p:pic>
        <p:nvPicPr>
          <p:cNvPr id="117" name="" descr=""/>
          <p:cNvPicPr/>
          <p:nvPr/>
        </p:nvPicPr>
        <p:blipFill>
          <a:blip r:embed="rId1"/>
          <a:stretch/>
        </p:blipFill>
        <p:spPr>
          <a:xfrm>
            <a:off x="4567320" y="2133720"/>
            <a:ext cx="4389480" cy="4400280"/>
          </a:xfrm>
          <a:prstGeom prst="rect">
            <a:avLst/>
          </a:prstGeom>
          <a:ln w="0">
            <a:noFill/>
          </a:ln>
        </p:spPr>
      </p:pic>
      <p:pic>
        <p:nvPicPr>
          <p:cNvPr id="118" name="" descr=""/>
          <p:cNvPicPr/>
          <p:nvPr/>
        </p:nvPicPr>
        <p:blipFill>
          <a:blip r:embed="rId2"/>
          <a:stretch/>
        </p:blipFill>
        <p:spPr>
          <a:xfrm>
            <a:off x="333360" y="1201680"/>
            <a:ext cx="804960" cy="4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348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Black"/>
              </a:rPr>
              <a:t>Ecological Pyramids</a:t>
            </a:r>
            <a:endParaRPr b="0" lang="en-US" sz="4400" spc="-1" strike="noStrike">
              <a:solidFill>
                <a:srgbClr val="003300"/>
              </a:solidFill>
              <a:latin typeface="Arial Black"/>
            </a:endParaRPr>
          </a:p>
        </p:txBody>
      </p:sp>
      <p:sp>
        <p:nvSpPr>
          <p:cNvPr id="120" name="PlaceHolder 2"/>
          <p:cNvSpPr>
            <a:spLocks noGrp="1"/>
          </p:cNvSpPr>
          <p:nvPr>
            <p:ph/>
          </p:nvPr>
        </p:nvSpPr>
        <p:spPr>
          <a:xfrm>
            <a:off x="1025640" y="1023840"/>
            <a:ext cx="7704000" cy="16178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How is this pyramid different from the previous ones?</a:t>
            </a:r>
            <a:endParaRPr b="0" lang="en-US" sz="3600" spc="-1" strike="noStrike">
              <a:solidFill>
                <a:srgbClr val="663300"/>
              </a:solidFill>
              <a:latin typeface="Arial"/>
            </a:endParaRPr>
          </a:p>
        </p:txBody>
      </p:sp>
      <p:sp>
        <p:nvSpPr>
          <p:cNvPr id="121" name="PlaceHolder 3"/>
          <p:cNvSpPr>
            <a:spLocks noGrp="1"/>
          </p:cNvSpPr>
          <p:nvPr>
            <p:ph/>
          </p:nvPr>
        </p:nvSpPr>
        <p:spPr>
          <a:xfrm>
            <a:off x="977760" y="2438280"/>
            <a:ext cx="3515040" cy="37562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What could the multiple pictures of the species at each level represent?</a:t>
            </a:r>
            <a:endParaRPr b="0" lang="en-US" sz="3600" spc="-1" strike="noStrike">
              <a:solidFill>
                <a:srgbClr val="663300"/>
              </a:solidFill>
              <a:latin typeface="Arial"/>
            </a:endParaRPr>
          </a:p>
        </p:txBody>
      </p:sp>
      <p:pic>
        <p:nvPicPr>
          <p:cNvPr id="122" name="" descr=""/>
          <p:cNvPicPr/>
          <p:nvPr/>
        </p:nvPicPr>
        <p:blipFill>
          <a:blip r:embed="rId1"/>
          <a:stretch/>
        </p:blipFill>
        <p:spPr>
          <a:xfrm>
            <a:off x="4591080" y="2290680"/>
            <a:ext cx="4389480" cy="440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00:17:36Z</dcterms:created>
  <dc:creator>Type your name here</dc:creator>
  <dc:description/>
  <dc:language>en-US</dc:language>
  <cp:lastModifiedBy>Plano ISD</cp:lastModifiedBy>
  <cp:lastPrinted>2001-10-10T11:38:18Z</cp:lastPrinted>
  <dcterms:modified xsi:type="dcterms:W3CDTF">2005-06-20T20:43:03Z</dcterms:modified>
  <cp:revision>88</cp:revision>
  <dc:subject/>
  <dc:title>ECOLOGY STUDY GUIDE</dc:title>
</cp:coreProperties>
</file>